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  <p:sldId id="264" r:id="rId58"/>
    <p:sldId id="265" r:id="rId59"/>
    <p:sldId id="266" r:id="rId60"/>
    <p:sldId id="267" r:id="rId61"/>
    <p:sldId id="268" r:id="rId62"/>
    <p:sldId id="269" r:id="rId63"/>
    <p:sldId id="270" r:id="rId64"/>
    <p:sldId id="271" r:id="rId65"/>
    <p:sldId id="272" r:id="rId66"/>
    <p:sldId id="273" r:id="rId67"/>
    <p:sldId id="274" r:id="rId68"/>
    <p:sldId id="275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slide" Target="slides/slide9.xml"/><Relationship Id="rId59" Type="http://schemas.openxmlformats.org/officeDocument/2006/relationships/slide" Target="slides/slide10.xml"/><Relationship Id="rId60" Type="http://schemas.openxmlformats.org/officeDocument/2006/relationships/slide" Target="slides/slide11.xml"/><Relationship Id="rId61" Type="http://schemas.openxmlformats.org/officeDocument/2006/relationships/slide" Target="slides/slide12.xml"/><Relationship Id="rId62" Type="http://schemas.openxmlformats.org/officeDocument/2006/relationships/slide" Target="slides/slide13.xml"/><Relationship Id="rId63" Type="http://schemas.openxmlformats.org/officeDocument/2006/relationships/slide" Target="slides/slide14.xml"/><Relationship Id="rId64" Type="http://schemas.openxmlformats.org/officeDocument/2006/relationships/slide" Target="slides/slide15.xml"/><Relationship Id="rId65" Type="http://schemas.openxmlformats.org/officeDocument/2006/relationships/slide" Target="slides/slide16.xml"/><Relationship Id="rId66" Type="http://schemas.openxmlformats.org/officeDocument/2006/relationships/slide" Target="slides/slide17.xml"/><Relationship Id="rId67" Type="http://schemas.openxmlformats.org/officeDocument/2006/relationships/slide" Target="slides/slide18.xml"/><Relationship Id="rId68" Type="http://schemas.openxmlformats.org/officeDocument/2006/relationships/slide" Target="slides/slide19.xml"/><Relationship Id="rId69" Type="http://schemas.openxmlformats.org/officeDocument/2006/relationships/slide" Target="slides/slide20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3C610-7F1D-41CB-A66F-F38C7FA0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22784-BC09-4CC5-8D4E-D34D0554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A9D18E-1E6B-4D45-BE0F-C353AFA2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4F0B0C-3F95-414F-8A30-3CE1D914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B816CB-AD04-42F6-BFFD-D1A48B3B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409F3B-E9BF-40C3-A6D4-46B9FA77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E3C1E7-59C5-4529-9841-C6B4D203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4E1B15-C327-41C1-B9A1-CCC8A78E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A49656-BD3B-4826-9B09-9E0B013E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8EC33F-7BE8-49EB-9F1F-BD1160AE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6ACB79-1337-4E47-8010-C394F72F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7CED85-893E-44AB-A2E6-6493A2E3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3CEF9-0736-47D4-8FE0-7195B68D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D7535F-45FE-4045-84F5-EA4F76AB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950FB8-A05B-4AA2-84CC-30EB3047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B5CA12-E8B3-47F6-BDFD-B8D8FBED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D57EAC-5669-4B4A-8111-9AB943F9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3D9745-2C4D-4228-941F-CEC7714D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05BDB2-4B88-445D-8F2A-9900DC55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45B5CE-68E4-4123-9262-15BAF98F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2BEDA0-BFA6-40E4-94B9-0FF9AB58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94EC8C-3FDB-42AC-87A5-5A103D42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3CEC2C-A7FC-4208-B8FF-CA9BD005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13866-B5AE-4639-8729-36CD3614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3DB7D2-7E46-4AA5-A2AA-D5EFD9AF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61A1CB-9402-4E55-B09A-F8F598A8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CB81AD-4DB7-4212-A1F0-D46EC6F9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326002-B3B4-4828-B40C-F5B5469E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F0648A-F5D7-420C-92D8-76E2009D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C5F998-48B8-4D9A-942F-389157F3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75F4A5-C916-4CD4-AD38-C02073B3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ED2F56-8A25-464E-9184-D7E8D476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71511B-4F5B-4B29-AF58-F4A64F76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72AEF9-359A-4330-931A-3BC6A8F6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EB38E-DAA3-40A4-89A9-91E3EF917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6095F3-B1C3-4E54-97C7-12A1E4D2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89EEB2-2EED-4044-AA42-A413BECE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5CCEE8-FE1D-4BDD-A10F-257A11E4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17B368-A85A-42DB-A104-90DE2A1AB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2FF5B3-5C3F-4766-AE38-2F8E0CC2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440E85-7955-4061-B750-AF14B691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08F2BC-7838-4D16-99E5-56AD9675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F41AB7-3338-4800-8B9B-B664FA21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711B1C-7789-4E09-B93B-3727EC72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8F1D18-9AB3-4BCD-8F3D-43D06FDE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57B39-65FC-47E3-8E2E-BAAED69B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EAC01D-F114-402C-8B8D-04EE2EDD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77D0037-1707-4C29-938A-F27795C9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52FACD-A9ED-4568-8082-A937913C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CCD4FB-146D-4A70-98FE-DA0D79FF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CA1B60-E5B3-4E06-BC9A-481E5257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1373B6-3A9C-45C2-86DC-53ADE42A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B8F540-88C8-443A-B4CF-C88FD207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C44A78-1673-443D-8DF2-BEF6EA19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71BD7C-EAFD-4EB8-82C4-F288CC1C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DF0F93-ABFF-4563-BF8E-D0CA6156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A43E9-6B9E-4A58-999A-7D2F03D8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84295E-58D8-4435-8462-2B12A7A4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631601-169D-430A-AE2E-2932B0D2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79A378-49CC-4217-9134-0707600F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98B29B-53D3-4EE6-A2E0-1A26784C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0B1831-8C39-41E2-A779-6611AAE8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CD3D25-5F14-4787-BD32-D633582A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A251F4-A916-437E-9885-453F1EC6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645B30-B166-4B63-9ADC-9A03C0F0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FD95AAA-6A2E-4C5E-9525-79D5CD94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77F8E2-DCD3-47E4-AF52-2220B8E0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F28E7-CF52-4F84-95A1-C580B102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31779F-3824-4338-BCE1-54A12291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5BC6D0-E332-49CF-9E83-E8C15363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A84647-CFA6-426A-9AAB-8D40E9F4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4EF0EB2-C243-4FD6-83C9-7BD65AC0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05FBEE-0C16-4088-B2DE-485814F0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356A2DD-4B5D-49F0-8F1E-0175DE28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C80E08-10E6-40E5-B20B-E66A2667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F88268-8FF5-4F32-9D9A-8AAA20F6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D695605-2DF1-4216-A631-3D61969B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5A29E06-A172-4BCA-8854-A7F3BA85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8FDFC-653D-41C8-B01C-AF861AAB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F5D922F-CFD3-4EE6-8B81-4F37368F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775FF2-D573-49E7-B956-A1EE2AC6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71DBB7-B509-4CF8-86B9-4F27CEDC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E77608-EDA1-43C7-B9CB-A3CEE45C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C993DB6-EBAF-4BE9-937A-C041A0C6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8091D53-175F-403F-901B-A0ABF1AC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E1ACCF-E50F-48B4-9A53-932D561B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02C2DB-A868-4678-A766-2E23668B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1436F76-82AF-4F35-A275-63F6163D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54F174-CB48-4E09-AB8C-6141D775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CA1C8-2E43-4B7C-9398-D9555A49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244B09-07E3-49B4-8A74-729E6EC5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5BB70A-C5A5-4AF0-8FA1-6EF1263F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184370-7795-48E1-A5BF-56AA90B4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07F2B4-003B-4278-BD5F-02658DB5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1DA24F-1B8A-4706-AF7E-79A9FB6F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28ED63-C699-4EDB-B292-0FCDF19B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5940B7-E1D0-446C-87A8-C69030CA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F4DF0A-FF21-404A-BE17-A8401636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DBA1F9-9A58-407B-B362-F3592695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A3D142-5537-4DCD-B36C-0BB51983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96E5D-3938-460C-90C3-21BF0D69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2675D8-2953-401B-A113-926C9E84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6B1DE3-F621-470F-8E93-8F548231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0B691C-BA57-423B-A9CD-8D0010BF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22C98C2-49B8-4DA9-B854-2B7DC864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03512F0-DBE3-49B6-A1A5-B979E8E5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B7DBA77-E302-4323-9265-215EE40D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5AE9C7C-3C13-4876-A3D2-1CA372DB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2831DD0-E401-49B6-A425-221C2760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7CCA2EC-4F2B-4403-8B9E-2D52DAF7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84B4E89-340C-4EE4-A42C-88BD7719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24327-F3BF-41DF-825E-A821E414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AF184-759C-49BC-9755-63220C25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AB4C4CD-4B44-4070-8C17-8097A28C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0CE6636-A8ED-41E9-A9B2-13662EFD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C9148C7-AB52-4450-81DD-A3BC6507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47A270B-3248-4094-8922-1A559968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EED0980-D2B2-4FD3-8298-7D12F43D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FA3B0CE-03D1-4FD6-B5AF-61D8C4FD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76ECDBC-9E99-427C-ACDA-01F2E93B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2820900-08CE-48A7-8589-1D7CAD7B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2AD533F-58F5-4614-A5E1-9C8D82F6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97FCC84-E676-41E1-A43E-DE3B4C79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F69D0-2A05-4B02-9E72-469CC402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1EB0D25-508B-4167-85BF-14E9F970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0691B88-6F32-4F6B-A6A7-7A61A13B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AB78B60-A528-42BA-9549-B57C463F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85591D6-3338-4EEF-9764-DA25576A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5DACE8C-CFCD-477B-A4F2-9D8EBA1B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9890B18-1703-4FA6-9CAA-E01A2B0C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A22E21B-6C8A-4F50-BD9A-4A1C3930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3D86FB8-B212-42CE-929C-DB94EF85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A773EA3-553E-4A4C-8693-04C607AC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1B3A0E4-683E-47EE-AD33-6207D0A7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CD25C-200A-4F81-B5C8-F044F373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56F3AAB-FDD2-479B-BA22-0290F44C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17881DF-2980-4BDC-AFCC-EEC5F049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EEF3CFD-B90B-41F3-AC5C-E9408AB5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03165AF-B674-4C03-AC78-98DB98EC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2D4E1AB-4D10-4603-868E-E0CE6540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022CC4-92A8-415D-B102-6AE10698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B539532-B4B6-40FA-8F7D-F4206ED0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4ED46C5-4F97-4219-9A3D-276E94BA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7D41E9A-D367-4EEE-B3AB-FA47A9B0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6202009-5B4E-4E7B-8369-E4A390DF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929EE-67AF-4CFF-8335-CE47DE41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D36BDEF-5084-4DB7-BCD9-B640E5E9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DEBD775-BB26-4503-8510-504305D3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2ACF31C-760D-4004-8954-4240E773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3513D42-2F2E-475B-AD0F-9D4D48E3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DC2EA18-10BF-4797-8687-6A7572C2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29543D3-C669-422B-A2A6-8ADB585D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FC90718-2D13-4451-8BCA-1FE5E7FD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3B00614-F0AA-4CF2-833E-9CD4758F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8B3B2BF-5EDE-4852-8F58-BA3A4E64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C78885F-A12B-4D99-95E1-55499832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6AD32-7F42-4DC2-8BAA-2C0EA9E6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7A4FE48-F850-4728-8B01-3B53C10D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9EA9E7A-1E27-4D06-8580-E9EFE4AB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3F27111-EE45-40D1-A028-C0071273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1CF40F8-6B60-407D-B74D-D21330DA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C685ACA-8FFC-47ED-B28F-D300BE42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3276602-41FD-4B1A-8A1C-A9FB07E3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EA81A25-C3E4-4B3E-ABB7-22730E3F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ED6EE1B-5EE8-4AE8-BC1A-3CA30CAB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00AE680-EC6F-46A6-B5D7-54350F03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1FA605A-78D7-49B5-BD3B-65B22007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605C0-1611-4E68-80A1-795C2E3C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5E79622-E5FA-41D5-A03F-BF623720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35A63A0-71AF-4DD2-8F63-ABF17DC3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5A36B4B-6C23-42B4-81FE-A34FABF9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7028F11-E2B6-40F0-B1D9-9352770C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D5C8446-674E-485A-9B1F-C8363055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FEB3D69-1A97-493C-BB84-2441E11F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6D2C645-2B2C-4C79-B680-2A64D1BA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151F33F-2ACD-4186-8160-37D370A9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E0076A7-BE1A-404F-9335-B9AA32FC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031B4CE-8A9A-4B36-860B-23C9848B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7C695-24E4-4E40-BF23-F4483DCE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4D86C61-0913-4D2D-B7AB-320BD8CA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069B03E-09E2-4FAD-9F80-E88BFC52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CB2D384-6932-4CBD-9AA5-932EFB4C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BB1143E-D16B-48C1-8DF7-FDA70B57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B0E7804-5983-439C-80CC-D9EE8E91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9C66C28-76BA-4B5C-89FF-2F0B87EA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3582DEF-AC4C-4F2B-807D-002C34D6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4F19ADC-D3C5-44A6-A38C-8662B053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BF30571-E586-431C-A8F7-8B448858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6AF13C0-970B-406A-A0BF-A05F3024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C5B88-0909-4C9E-B535-228DBF8C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55EAD7E-4427-40C9-9453-4656E4FB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6E36F33-3E53-4297-8954-89DAA0EF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6D6CA83-81F3-4147-A8BC-60BD594D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4C25417-1D1A-4D84-BD77-EDE9752A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A35992C-07C9-4570-8A37-3762E35C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F021214-FE42-4B0D-B605-F76D8E87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F0A25F7-5F03-4D84-99A0-31B07DFF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751D65E-CC38-49CF-9EAD-935230C9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FAE5F35-96BD-4FA5-8585-B661AECC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C73EF1D-94D4-4EEC-9D87-E8C132B5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C0F74-838B-44C7-A9D3-92F63F09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A02B3F3-9A52-4C39-9280-1C31B517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6395BCC-33B6-47A9-84D0-FE275751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B9DE052-D4AE-4177-98B2-954C06A9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C5A2543-3495-473E-96FE-0933E3B6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C5A4BC8-2A17-45F3-A749-CE2ED2E9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9375681-E735-45E4-9E0C-E8E754E7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6AD74DF-87C6-48E3-B254-8C9782CA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26DD42C-8977-46A4-9FCC-C950C4BF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FA4BD28-A832-4C59-A7D6-BC255F7C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448D1E3-2D4F-4994-83E4-2933AAAD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20C84-D914-4A35-80D7-27C524CA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CB9A14A-7664-4914-88C7-1B9C4B16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775CE71-39C9-4BE5-8F43-2CBA32C3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C22E78F-1ED0-4237-817D-2B318999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55625EC-16EF-47B1-A160-68C36BF6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D6DD362-6D5C-45A7-8426-3EEF8635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6636EDA-CCC8-4161-9A7A-FF371C18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27E46AD-6342-4A0C-BBC8-2092A3BC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28D9369-EFAF-43B3-A82D-51C854BB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33B3EC2-6BD0-4848-BD87-534D99C9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AA07343-4E7F-4FE7-8EFA-12609816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998F8-1B5D-4932-A5F8-168FD243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D119F-396D-4B06-B18E-785E18CE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8667C2D-EF6B-415F-A193-CCEB2A2C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9E407E4-D365-4721-B26F-A89B1AD1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9A94B94-3619-4A5F-BCBA-5109FD2E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DE0A8F1-D916-47AF-BD3D-98C8B9DD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610CF66-4F41-44C5-B93A-2493F8D6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28281F7-ED99-4DF3-99EF-720F374C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ED1E836-923A-438F-9F92-775A4411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6FF2C0F-6B64-4D87-81A3-079AD5C5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A6D2F81-C689-4848-8C0C-FA4D88E0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CA7D470-43F5-4350-B46A-3602EA66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9D75D-161D-4660-8AE8-3DED51DD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4314E57-44C5-472F-A797-E0EF1037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52C9D95-2E71-4D71-AB60-BFC9CE89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507A8BE-A501-4D1F-A593-EB724DDB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7F40CA-EDFB-4FDE-853D-5A8EB60A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52C01E-99C2-4ADA-B92C-C05EF146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B59C69-CE95-48D3-9C55-4C46CA00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C6528C-A052-4903-A62C-C2DAA071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9CC36C-E410-4686-808C-83EC10A2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98182D-D22B-4FDF-81FF-216ECEC0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E1A4C9-BF23-4F53-97B0-12D04CBA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842C8-CF12-4230-903F-4446A920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475265-9529-4029-B8B7-230ADDCC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0BE470-C514-48DB-A4D2-9ADD667E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1174BB-F585-4638-A288-FD6A42F5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EA41C3-152E-41A3-9822-DCE0315D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81327E-C07E-4A0A-8DF7-BFDA5B51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AD9D097-9C14-43D3-BBCE-9D2BAFC8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82BE5F4-303B-45C2-9E61-179BA3FC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C9BD5AA-8994-4FC3-B643-EC9C2833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CB35F45-4CB9-4169-B710-8BA26463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4B282BE-5135-4BD3-9C5B-7C4B3CCF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91CDE-090A-43AB-A878-4C104B10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7063A29-1DD5-42EE-8ED9-BB92E0A8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8D2FCE4-9758-43D6-BA79-31067810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90353F8-F66C-42B0-8AEE-F24ECB79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46D4B14-21DC-4A90-9B94-C2E581AC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C1343AB-5B49-4AA0-843B-CE92444A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237A525-7976-4316-9E38-7D289224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09A7E35-FF21-4D50-8990-3C416282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128CF4E-08EE-49F9-9D10-F1AA99AC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8A9C77B-4D7C-497C-853F-C89D5D3D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F00CA48-05D3-45D6-9BDE-09DE1E49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47897-D569-4AB5-9B95-2392B776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A86A8EA-F820-44FE-8485-4454050F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D969C3F-2F61-4BBF-BEAE-9FB175B0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8319D17-80CA-45C8-A700-B7438DF6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1B4F34B-9974-4356-A168-7C1F2973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738E3F2-A859-4464-A87B-EE0FBA56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2B069D4-0B25-4032-950C-285E6517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5226288-11D1-4D6F-93E6-C7E6A5F1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44354CA-04A0-4516-B5C9-568D1060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E586159-4EBE-454E-8686-B5A39F7B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EA7809C-44D8-4454-9D8E-B6A6B1A8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2C9D0-32C4-4A01-9333-1BAD9763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8C7FE2C-96F9-437F-A935-29C7958C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A44BCD6-C35D-4886-A43C-A9DC6D5C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53E8E23-1B6E-4EEB-A4AF-EAE31CD5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59EF5EF-2675-417A-8669-7EA13EBC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970855D-40B1-432D-B501-B63917D6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F902C564-A9F8-49AA-A980-F7C70B2A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DB6F7AF-DAE8-4BD8-9732-FE124C7D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0A485FD-524C-4FB4-BE48-A7720B87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B8A4405-DC38-4113-BBEC-3B5EFB51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5AA1690-B17A-45B4-9B4D-F4277F20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77209E-2925-4105-92EC-230394EB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4323475-E362-48FB-9979-95E6251C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547CD1E-6944-4D7B-82C4-705700AC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D3E02E8-8381-4D9B-9C43-58C108AD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7CDC8E7-3796-4D1C-8FCD-E165E2EB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DE4A9DE-9488-4630-BC6A-1ECC77C3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3FCE0C0-E339-4A40-9061-3BF5A9E5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2BBB45E-D9E3-43C8-8D29-AA21BBFA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F5A298E-3714-4A0C-86AA-C8F46F11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6664190-CECD-45FE-A70E-38CACB4E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F429267-510B-4087-AF7F-A52D318B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C3ABE5-5246-4FAF-9A73-9B6E5240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CA7599F-F195-46EA-A150-AC5ECD3A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F1D6ADD-5723-4810-BFB8-751FF27D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85A9632-588C-4AF1-A706-7D05C591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0DE493D-7342-494C-8524-34687633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6B02438-0A5A-46E1-A681-3B0B4D0E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696EC60-E02D-41EF-AF53-317AC16F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7F135E7-4919-4DA0-B005-A5EA3394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C7AAFC2-5A70-4B82-BC9A-22A681D2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048726A-FEB8-4448-8B68-47EEE092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B387B9E-C09A-416E-A06E-60A93B57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B33325-A428-45B8-AAB0-6C9EE996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70CCC89-A9EA-4991-A90D-918D9FFA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D4AB4AC-88B7-4694-B002-D0EE614D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1650F6B-C6D3-48A6-8E96-FAE28D25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C721916-A9AB-41F0-813B-FE61D06A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8B83CBB-13DE-4276-A254-4E1F0E5C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89E388C-7E89-4A03-B32B-FAB6F4A9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28D1356-D41A-4CF3-90BD-CC86F627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6AB05FD-CAF4-4A5F-9080-57BFE129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6AB8CBB-7900-4E5B-B352-B8DC98CB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93AFA9F-514F-4C4D-8A9F-EF222470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B0EFC8-B594-4B3C-A79F-43B1D406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5DB1981-F9F9-48F3-B41A-A6D2C7B5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7F5D8B8-359E-4448-BAAD-67C36ACD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E6A33C3-872C-419D-BAD7-0E65E2A2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AF47527-F3A2-42BC-8847-2CCB30AC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233047C-CBFA-4EA4-9085-9E4937B8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56E098B-04F8-4A85-8CD4-C9DEB438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5B0AE3D-D5A7-4430-83E0-064D8C23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CE813D1-0C8F-4550-BF31-D99F4AFB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8C5D9DCD-A227-4A9F-A531-0CD1D6FC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13FE77A-8E45-4F0C-8BCE-876276E0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6FF34-325C-4C7A-898D-0085DE49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7A32F0-6052-4C8C-86BF-0552F3DF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8A5FA43-C769-4FE3-8546-66C2A547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EB55BFA-48F5-4697-BA1D-D27B414F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BC94F83-1C98-47B5-848A-009C0CC2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C7EC21A-8D60-477D-AD73-9A1C9DB9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8F843F5-BE8E-484C-8D1C-4EABE6FF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2E73F86-E0AB-49E5-BB40-589EF052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11939F3-CB0A-4738-9735-53705757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426548F-0AB6-46E0-950A-9D877932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61DF96C-8C57-4A40-9A32-B7791B37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D7EAECF-540B-4A6F-8515-4B308AE9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2A129B-F960-4671-BDF9-E40242F1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72F73C1-5672-45EA-A25D-0C518328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0D33A13-2909-4B0D-9CFB-80A3ABCC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1524CE4-D1E3-4D60-9E46-8563A46C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6D637EE-61A3-4D2E-88CE-EC6289D8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9669F23-45FD-439E-A781-78C2FDB3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6F014BF-9A1D-4461-87CB-233CAC56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48E92F6-43C1-4078-B907-B36A10B8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F3488B2-7F19-486F-A41F-F440B17A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7C61315-81E9-4E62-B1EF-D20A82E5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BD0A6D0-82FE-4426-B5C6-AD8DA1C74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21A348-B8CB-4044-8157-778C5C20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9A90BD7-E459-4239-A9C3-EB3B6032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8A83C88-3297-4CD2-A45F-37CB0FE4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AD371F3-3E0A-44CB-88E6-DA5D835B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00BD7DC-DB2F-4869-A5D7-F2D4D0BE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EF1A9B2-61AD-4F4D-BD88-B34FDBE2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99C28FE-A244-42C8-B44B-3C3D28EE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83A6493-3ACC-41EB-94BF-F1C5BF49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00E4AA9-5A92-4788-B684-B1754220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65669E4-D5F7-4F30-8F1B-A0533C8F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E9043FB-9113-454C-A011-BE21F284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00F5F4-7225-41AA-B00A-88DE3777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A07FAD3-D406-4941-9E6B-F4458253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04AF1B7-DF00-4ECF-B40F-1798114C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A864B38-C2BF-4AC6-92AC-05AC8467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7A303D1-3EF9-4617-8EE0-905859A8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E04FC47-8961-4580-9013-8225CE8A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2CEEFDB-8534-429D-881D-34D57860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E62B261-948C-456A-9979-6C705F80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F301FC0-CDF8-49AF-ADCD-3343B344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5C351CB-999E-4525-B7A5-CCC34EB9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D735FB3-C2C8-47C2-9208-596BFCBE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BB31B8-6D21-466E-9859-0FCEA409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D252B88-50DD-4B8E-BD3C-6E8C8CE8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61C7979-76E3-45E1-898A-630A52AE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68ED954-4D24-4178-9174-03F4843C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CE77B8D-83B5-4BFF-A389-EA48031F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C361CF4-6CE9-4E46-B7E9-097FA7E1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8C0CC69-992F-4455-96A2-8031A5ED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A8B856D-3D00-4336-BB76-7C6165D6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3C94A00-818D-4268-9CB4-5DD1A092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30811D6-6577-4579-8347-C281CC74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B4E0341-5691-42DD-860D-F84563F9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F76038-888D-49F0-AE14-6248D1A4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BA5FFE-00B4-4198-ABB6-4A1FC5F9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42526CE-396B-49D1-BFE5-EF4799A4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456B7FB-E7A4-42D8-A753-42D9C811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E3E26FA-47E0-4DBF-8065-ECE2AA07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018828E-550B-46AC-A5CA-339919BE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CE25747-C277-4447-BE27-5A413078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9748D5B-7D56-41E7-A9C7-20201AD8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9A95BD3-E25A-404E-B073-9FC5660DA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CEF96A3-64BF-45D0-8CD0-49D4C647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1A7C44A-AC8A-442E-A146-52CD4934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51DAB5-F23A-46E3-BB65-FB37400A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C2DB4F6-F0A3-4341-A56C-5AA8AE2F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A76FD46-2FB4-44FD-8501-A73D569A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136512B-62F8-422D-8ADC-EDBB3A9F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12AD06E-72EE-46F7-918C-D60E32FC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0A7A161-4A49-463C-9DA1-C2501235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3F7B52D-EAC3-4F02-B09B-90BEBFD4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4526BEF-C877-4DB5-B0C6-813C82CF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6F1F76F-A00E-46F7-BE74-9A96D64B7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A8B4AFF-CE94-4921-9135-F1138C49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CBEB0A7-49DA-4FB4-9C7E-C9D67557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4B5D48-0E7C-4825-98C5-F1448A9E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38FDE61-4FA6-4031-884E-CA917463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1B980A0-32A1-41A1-9FE5-CA490244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6C5BF34-BED5-4A6D-9FB6-A766C575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42DF973-5F68-4CB0-8F0C-B7DFE407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0BB2B94-DA52-44BF-983D-B9FC1460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E76806C-AFA6-47E3-AEBC-4A980DE4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F1EECEC-E5AC-46AC-8156-999FF5AC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A297A97-8042-475C-806B-8E4361CE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A704D51-462D-4AA4-BE06-2A3F4F31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28E49B5-B9B1-4A97-B0FA-BCB8F3B2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13DA25-7FCB-46F9-886E-72B5F5DBE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83A7037-4253-42F3-847D-77F65C13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24965AC-9B86-48D6-9251-47620F48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45D1E04-8C2A-4D58-B702-B98CF899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D731C00-4F5B-477D-B954-D3AD25FD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131FB79-36BD-40B2-AB23-C4C187B4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9AB5577-4879-41C5-AF3A-1F1EE63D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5A247E8-9047-48D5-B3DD-719D7BCB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153CCD4-CBE0-40A7-A256-9E20C6CD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CBF5EFA-DCCC-47E8-9CDE-9073B6B9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BEF6523-E384-4CF2-8088-51B1C7FF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68104-7043-4F9C-B3DA-11DDF97C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4AEB7AB2-26DC-4C88-9E91-92061854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D8F7CA7-F5F2-47E2-B3AA-618DE6D7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36B2875-9826-476A-9D91-37BF1802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E660B0A-E7CD-4B80-B0B2-AB86C343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2756C30-7010-4BB1-A733-3E1606E6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38285EE-6BFD-442C-8170-99F1BA92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F5B9CC8-945D-49C8-B4D2-303056CE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0DE3BC2-B482-48E7-9016-5048562D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D21CD49-EB90-4341-9F09-E254199F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24CAA72-B319-42CC-BD79-A77CFF2C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7D6E2-433D-4ADF-BA3C-55C76F2F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4CA75-2133-4449-A59E-2CB95CBA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7E4F124-47D0-4C83-91E6-B04451BA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67FA5BE-DD3F-46C3-A294-398735DC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88AA25D-19F6-4A13-9506-DF40037C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A4FAE8C-9810-4839-A024-BC971EBC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DFFF642-DC92-42C0-B759-EBAF23FA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6DDDCEFD-5CBB-4583-BC3F-7E4DA94C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572E0C2-3A73-4E05-80D4-90F4AEF4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2695EAE-9BBB-4CB5-982B-6D34724B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3231781-5928-4E67-9BB4-D2AF6FD8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F48E539-855F-4DD6-8987-C315C200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53A9B-8955-4F7E-BAAA-EA38FC24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3C56D05-0D3D-483A-80BC-996DCEB3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EFA1284-EC6A-4024-B11A-6D128446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901A6E0-B64A-43F9-AC7E-E2F42AB2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52314177-3071-4232-9B11-499E29CF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EEB8473-012B-45D9-ACF8-C5A184C4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BD972886-E766-496B-9796-E4AF7C1E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136B14F-6415-4215-B839-71AED0AF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FBA506E8-8ABA-4B71-82E7-5D533080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A4A01E8-E7DD-4B70-878B-90BD3B37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891331DB-C403-422D-AB96-6755D6BE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DE468-DA36-4ED7-9B80-60CF80C8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52A9619-215D-455E-9C72-8F17F423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82C842C-1011-4AE8-9F45-C00E63EC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6FFD7889-94E6-446C-9E01-C3C61D0A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E4E2ACA8-25F9-46CB-A3FD-85126475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AE558378-DCC8-41C5-9B0B-E38C730B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E35013D2-9C0B-4F50-90D1-23DEEE2F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7E8B181-1B03-49BA-94C7-64A22156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6889D76E-45E8-400A-ACD0-3AAEE053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CC1D2ADB-E506-4D11-9AED-9F3E8B0F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A64D5A0-D111-419B-A671-D7DBF6AD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A501B-BD0F-4F54-8A94-85D6100B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44EE258-ED42-43CC-AD0B-0E83C0B9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99DB4E9-3DBB-451C-B211-CC6811CB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ACB42D6-F23F-43E4-AA69-68EFE5BE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806A1C0-3E1A-4295-8E02-780BDF0F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5D4032C-5757-46DD-B492-7B6D5FD9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5B92AF0-53B6-4365-AC91-2123EC55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EAE3FEF-92D3-450D-9977-2126FFDB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E5FF8CF-B0EB-4136-BB90-67D283E6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DF63E3B-6DB1-4304-AB60-997315FD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A517C81-6A22-4B71-A8EA-8F8B0797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870C2-47B8-4633-852A-259F0C19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0690E02-A73B-4408-9D6B-5491A0A3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26033EA2-35B7-4508-B656-51AEA355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E23FD94E-6B5D-4898-844A-4A101398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8D60E88E-5A28-474E-9C10-55C2B838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87CCDC14-7F0E-4658-B9D2-F181FCA6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89152300-87A1-47B4-BD6C-C58A8D98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86D1BDD5-49CD-4B8C-9818-F76DBCE3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AFCB311-682C-4F07-9A0E-3A3F7C93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368713D-3C5E-4D34-8F84-AC37D43B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CAA31E7-1DC2-4A3A-98E7-05F0D509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EDF00-E2F4-477C-AD3A-812574AB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E962759A-9664-40EB-88BE-B727435C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ED6DDC1-D66E-4789-8FEC-62590A13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F0EE026-2C44-40DE-AE83-59652221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218E4FB-DC4B-48BD-966A-5A54ADC4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DF14929-84DC-4F62-BAEC-8606B42D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3E8DA618-D690-4073-B6D7-C4B53892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F805F57-4C6F-454A-9E28-150340B5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6DF3104-5DD7-4ED9-A3FB-59F32309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1093BC0-711C-4BF5-8D61-63D4E3FF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F1485912-7DDD-4A89-8D57-76F6E4DF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FF319-33F4-46E7-A331-5B5E1D96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1E9F1F5-3A30-4520-9B68-2B07833E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1A24873-1DDA-4EC6-A9D0-489F7802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F494325-C3D3-4CCD-AE88-12CF16C0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851B776-03BE-4944-BE46-3C779B88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2E7568E-AD19-4E91-8A98-E34D690E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D1A44EF-878B-49F9-A583-37E2CCCD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898C0099-7E96-4A4A-97CE-312C9B4F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F55C8C29-9411-4C00-9908-D2E5A4D8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369F823E-4611-48A9-8AC0-177A3136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4304A84C-0306-4B0C-B309-B89F7372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D37FF-79A5-414F-A04E-852F7EA4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4296F6CF-9119-4F32-AA6F-3981DAB2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A1340A97-F6D1-449D-9EA7-13A13258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BABD36E4-118C-4AEA-9F4B-1F619698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6C5705B-AC0D-472F-B0A3-857C18D1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44DBD77C-233F-41D3-B272-4CFEAB33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6D728D4E-6C49-46E4-9D5B-14EC1AA4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DF9F5CDA-4EAF-4DB4-8DCC-B31143AF9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34D24-F151-40BA-ACC1-3ABB2481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73845-3B46-4359-A0D1-7AA0BF630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7B5FC-33F7-45BE-AE34-011073AB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66303-A390-48EB-BB4F-FFB0A03C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71437E-0B31-406F-8209-8330879A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472B35-E1B3-46CF-80F1-45C65394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7BCEE4-D2E3-46AC-9677-8A098C0A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C44B7E-09AD-4C45-922C-9A546E4C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ACB638-7B51-4A05-AF88-8792F83B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C7DC95-419F-4B84-96DB-9EFCED07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C1869B-4EB5-415D-AE4F-A44CD369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86C0B-8D16-4072-A885-89EBA7F5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4A3A6-5EC1-460E-8EA9-AD6D5F05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235D9-E0B8-4548-83F1-1C28E68B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9137E4-D582-4F13-B603-59DC697D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A2497E-9D09-4828-8519-D103431A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B4B3A4-BAD2-4E26-9B42-1773EA8F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621C9D-74AE-4243-A4C7-EFE25276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4BD2E6-FA05-43AC-8F2B-8DD8576F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99C0F0-AA7D-47C9-BBC7-5A5FD3E6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B74F10-6009-47E4-8CE7-501C4249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C8E348-F844-4A5A-9870-BE5DF06F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289A69-86DF-47AA-8E4F-BE511A22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F8ED0F-031B-4453-9AE5-495FD98C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30B75-64DC-430C-B169-7FBFD9E6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EAEAC8-0CDA-42B0-9B07-CBA6F7DD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580B76-FE8F-49A2-8A3D-339CAC28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F61735-3CAE-4270-A73A-E2E4D0BD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8318BA-DDF0-4F19-9623-0E915BEF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B12E86-A423-43A5-A82D-64C931A5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8BDB83-5948-4AEC-ADAD-2B5B1012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1946CB-A679-41C3-BCD7-8FB2AC37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89A362-D1CC-4FB5-AABC-FCEAAEF9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EAC062-039F-4624-ACD8-829932B4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F7AFF7-AFE8-4449-9449-526275BD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31B40-4795-4678-9AB7-347BE02F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18A271-3747-4CE2-A2DE-5A380DFF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65F141-BDEB-488F-9E9C-FDBAEEBA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4DC50B-5931-48E4-B60A-57EAC4F5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8AC4FC-4B20-460E-B8E5-7DA189D0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05467C-F89B-4B38-A1D7-F2A2DB3E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4F1C8D-C0DD-4815-8027-87729D48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8898D9-02A5-44CD-AF6C-EDF32E49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11F642-2842-4454-9917-5AC454D6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7117E2-8760-4791-B739-A38FA539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554B4D-12E7-4C29-829F-B0E11BCD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9647-095E-4458-BA77-CF2FBF4D67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A58D-768E-4DB7-BF01-C3C0995146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57E5-72B2-49A3-B68F-4B997F9292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E2D9-4AD9-4BD7-9938-BBADE98B98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3555-7DE5-409E-8E9D-867114EFF3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49D7-E8F0-4293-A51F-578AF67807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9EBB-D0F8-4131-B1CC-668369E4BF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7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218B-293D-4B03-9315-0DFDED5337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47B8-73AB-4AFB-B1BC-75BAD259EA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ftr" idx="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F1BA-AFDE-4C04-8178-6DBE9BFBB8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dt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ftr" idx="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sldNum" idx="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3798-F73C-4251-B5E1-484C8B4D88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dt" idx="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7A07-DD74-4CAE-A163-E5C6F06C89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ftr" idx="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sldNum" idx="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4810-2CD9-4858-AB68-7F9FDB1FF8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dt" idx="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ftr" idx="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sldNum" idx="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D538-7B31-4720-873C-030CD2ECC5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dt" idx="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ftr" idx="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sldNum" idx="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5693-A91F-46A2-AC8B-F618FDD444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dt" idx="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3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ftr" idx="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 type="sldNum" idx="6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AAC2-ED04-4683-BF3B-A1EF223604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 type="dt" idx="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8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ftr" idx="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sldNum" idx="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3A78-848E-4865-A2A5-B9609DCCD4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dt" idx="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ftr" idx="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 type="sldNum" idx="7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B43C-C747-4FDE-AB31-075283CF5A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 type="dt" idx="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8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ftr" idx="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sldNum" idx="7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CB22-7FD5-4C4D-A0F2-D564F1D335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 type="dt" idx="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3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33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18AD-5CEA-4600-B8B7-9957B67772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9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ftr" idx="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sldNum" idx="8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FC69-A31C-4E73-9AC5-BC4AD69A80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dt" idx="8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4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C893-A882-4805-B2BA-5B9A26F38F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012B-3681-4751-B907-2C1ECAFFF5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9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 type="ftr" idx="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 type="sldNum" idx="8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41F8-66FB-419E-A1FF-76BEE3A17A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 type="dt" idx="9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4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 type="ftr" idx="9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 type="sldNum" idx="9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749A-7A63-48E4-9B9F-4C3041D99A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 type="dt" idx="9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9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 type="ftr" idx="9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 type="sldNum" idx="9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D110-8613-4C58-A067-3BEE96A9CB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 type="dt" idx="9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4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 type="ftr" idx="9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 type="sldNum" idx="9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3EF0-FBB8-4880-9F38-6A457CB6C1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5"/>
          <p:cNvSpPr>
            <a:spLocks noGrp="1"/>
          </p:cNvSpPr>
          <p:nvPr>
            <p:ph type="dt" idx="9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9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 type="ftr" idx="10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 type="sldNum" idx="10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1584-D104-40F4-873C-FD065302E2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 type="dt" idx="10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4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 type="ftr" idx="10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0AF0-6C6B-4E0C-8C8B-8451079809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 type="dt" idx="10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9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ftr" idx="1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sldNum" idx="10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62B2-DA5B-48AF-9E60-D7C4D1ABEC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dt" idx="10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4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 type="ftr" idx="10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 type="sldNum" idx="1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BD53-D4A6-4F89-A792-8C386EC8A0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 type="dt" idx="1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0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 type="dt" idx="1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B200-52EB-47F1-A115-4EF71851C0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5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ftr" idx="1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 type="sldNum" idx="1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5909-E2FA-4EAD-B378-D4C8503FD2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 type="dt" idx="1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223B-C497-4919-AA3A-85F5479A30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0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 type="ftr" idx="1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 type="sldNum" idx="1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A8AD-BD10-484C-8DAE-6E6B876222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 type="dt" idx="1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 type="ftr" idx="1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 type="sldNum" idx="1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0515-4BE7-49E3-B747-69682B2707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 type="dt" idx="1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 type="ftr" idx="1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 type="sldNum" idx="1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0D79-D070-4325-898C-61BC869CD1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 type="dt" idx="1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5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 type="ftr" idx="1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 type="sldNum" idx="1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01C7-2CE9-462F-9954-372FCFD477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5"/>
          <p:cNvSpPr>
            <a:spLocks noGrp="1"/>
          </p:cNvSpPr>
          <p:nvPr>
            <p:ph type="dt" idx="1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1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 type="ftr" idx="1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 type="sldNum" idx="1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4CC2-15AC-475C-846C-C49E291340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PlaceHolder 5"/>
          <p:cNvSpPr>
            <a:spLocks noGrp="1"/>
          </p:cNvSpPr>
          <p:nvPr>
            <p:ph type="dt" idx="1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6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 type="ftr" idx="1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 type="sldNum" idx="1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82C4-117C-43BE-AF31-763F97E378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 type="dt" idx="1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1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 type="ftr" idx="1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 type="sldNum" idx="1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CFA4-318C-42BA-A7AC-E9A1339148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5"/>
          <p:cNvSpPr>
            <a:spLocks noGrp="1"/>
          </p:cNvSpPr>
          <p:nvPr>
            <p:ph type="dt" idx="1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3"/>
          <p:cNvSpPr>
            <a:spLocks noGrp="1"/>
          </p:cNvSpPr>
          <p:nvPr>
            <p:ph type="ftr" idx="1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4"/>
          <p:cNvSpPr>
            <a:spLocks noGrp="1"/>
          </p:cNvSpPr>
          <p:nvPr>
            <p:ph type="sldNum" idx="14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2CAD-84DD-49BB-A0CE-4B9895F7C8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5"/>
          <p:cNvSpPr>
            <a:spLocks noGrp="1"/>
          </p:cNvSpPr>
          <p:nvPr>
            <p:ph type="dt" idx="1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1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ftr" idx="1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sldNum" idx="1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76FE-3724-4596-97BA-71A2D2588D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dt" idx="1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0EAA-F7C8-4A5A-8E84-1389CDEAD0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20BE-27F3-4AF5-BFF9-594A1739E6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1C4E-B6AB-40BA-9FE4-905D5B1DC5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000B-B1B6-4195-93AB-9B916B4E02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9814-1549-46FB-A304-F47C8CA5B9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Bevel 4"/>
          <p:cNvSpPr/>
          <p:nvPr/>
        </p:nvSpPr>
        <p:spPr>
          <a:xfrm>
            <a:off x="990720" y="2590920"/>
            <a:ext cx="7010280" cy="1752480"/>
          </a:xfrm>
          <a:prstGeom prst="bevel">
            <a:avLst>
              <a:gd name="adj" fmla="val 12500"/>
            </a:avLst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KONKURS ZA DODJELU GRANTOVA ZA PROJEKTE ISTRAŽIVANJA I RAZVO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5" name="Picture 6" descr="Heric logo"/>
          <p:cNvPicPr/>
          <p:nvPr/>
        </p:nvPicPr>
        <p:blipFill>
          <a:blip r:embed="rId1"/>
          <a:stretch/>
        </p:blipFill>
        <p:spPr>
          <a:xfrm>
            <a:off x="895320" y="4800600"/>
            <a:ext cx="2990880" cy="1295280"/>
          </a:xfrm>
          <a:prstGeom prst="rect">
            <a:avLst/>
          </a:prstGeom>
          <a:ln w="0">
            <a:noFill/>
          </a:ln>
        </p:spPr>
      </p:pic>
      <p:pic>
        <p:nvPicPr>
          <p:cNvPr id="2466" name="Picture 8" descr="Heric logo"/>
          <p:cNvPicPr/>
          <p:nvPr/>
        </p:nvPicPr>
        <p:blipFill>
          <a:blip r:embed="rId2"/>
          <a:stretch/>
        </p:blipFill>
        <p:spPr>
          <a:xfrm>
            <a:off x="4756320" y="4876920"/>
            <a:ext cx="3092400" cy="1218960"/>
          </a:xfrm>
          <a:prstGeom prst="rect">
            <a:avLst/>
          </a:prstGeom>
          <a:ln w="0">
            <a:noFill/>
          </a:ln>
        </p:spPr>
      </p:pic>
      <p:pic>
        <p:nvPicPr>
          <p:cNvPr id="2467" name="Picture 3" descr="MNAmejl.JPG"/>
          <p:cNvPicPr/>
          <p:nvPr/>
        </p:nvPicPr>
        <p:blipFill>
          <a:blip r:embed="rId3"/>
          <a:srcRect l="0" t="30864" r="0" b="0"/>
          <a:stretch/>
        </p:blipFill>
        <p:spPr>
          <a:xfrm>
            <a:off x="3581280" y="479520"/>
            <a:ext cx="1371600" cy="18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2" name="Chart 3" descr=""/>
          <p:cNvPicPr/>
          <p:nvPr/>
        </p:nvPicPr>
        <p:blipFill>
          <a:blip r:embed="rId1"/>
          <a:stretch/>
        </p:blipFill>
        <p:spPr>
          <a:xfrm>
            <a:off x="-6480" y="987480"/>
            <a:ext cx="9156960" cy="5877000"/>
          </a:xfrm>
          <a:prstGeom prst="rect">
            <a:avLst/>
          </a:prstGeom>
          <a:ln w="0">
            <a:noFill/>
          </a:ln>
        </p:spPr>
      </p:pic>
      <p:sp>
        <p:nvSpPr>
          <p:cNvPr id="2493" name="Flowchart: Manual Operation 5"/>
          <p:cNvSpPr/>
          <p:nvPr/>
        </p:nvSpPr>
        <p:spPr>
          <a:xfrm>
            <a:off x="1219320" y="609480"/>
            <a:ext cx="65530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Statistik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onku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4" name="Chart 4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2495" name="Rectangle 3"/>
          <p:cNvSpPr/>
          <p:nvPr/>
        </p:nvSpPr>
        <p:spPr>
          <a:xfrm>
            <a:off x="0" y="38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Rectangle 6"/>
          <p:cNvSpPr/>
          <p:nvPr/>
        </p:nvSpPr>
        <p:spPr>
          <a:xfrm>
            <a:off x="1523880" y="2133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9c3436"/>
                </a:solidFill>
                <a:uFillTx/>
                <a:latin typeface="Arial"/>
                <a:ea typeface="Times New Roman"/>
              </a:rPr>
              <a:t>42 naučnoistraživačke institucije iz inostran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Flowchart: Manual Operation 5"/>
          <p:cNvSpPr/>
          <p:nvPr/>
        </p:nvSpPr>
        <p:spPr>
          <a:xfrm>
            <a:off x="1219320" y="609480"/>
            <a:ext cx="65530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Statistik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onku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"/>
          <p:cNvSpPr txBox="1"/>
          <p:nvPr/>
        </p:nvSpPr>
        <p:spPr>
          <a:xfrm>
            <a:off x="456840" y="19807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133"/>
                </a:solidFill>
                <a:latin typeface="Arial"/>
              </a:rPr>
              <a:t>U</a:t>
            </a:r>
            <a:r>
              <a:rPr b="1" lang="sr-Latn-CS" sz="2400" spc="-1" strike="noStrike">
                <a:solidFill>
                  <a:srgbClr val="933133"/>
                </a:solidFill>
                <a:latin typeface="Arial"/>
              </a:rPr>
              <a:t> skladu sa Priručnikom </a:t>
            </a:r>
            <a:r>
              <a:rPr b="1" lang="en-US" sz="2400" spc="-1" strike="noStrike">
                <a:solidFill>
                  <a:srgbClr val="933133"/>
                </a:solidFill>
                <a:latin typeface="Arial"/>
              </a:rPr>
              <a:t>za podnosioce prijava za grantove za projekte istraživanja i razvoja </a:t>
            </a:r>
            <a:r>
              <a:rPr b="1" lang="sr-Latn-CS" sz="2400" spc="-1" strike="noStrike">
                <a:solidFill>
                  <a:srgbClr val="933133"/>
                </a:solidFill>
                <a:latin typeface="Arial"/>
              </a:rPr>
              <a:t>i pravilima Svjetske ba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33133"/>
                </a:solidFill>
                <a:latin typeface="Arial"/>
              </a:rPr>
              <a:t>Svjetska banka dala saglasnost na svaku fazu procesa evaluacije i prilikom izbora svih evalua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Flowchart: Manual Operation 3"/>
          <p:cNvSpPr/>
          <p:nvPr/>
        </p:nvSpPr>
        <p:spPr>
          <a:xfrm>
            <a:off x="1219320" y="609480"/>
            <a:ext cx="65530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 evalu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Rounded Rectangle 5"/>
          <p:cNvSpPr/>
          <p:nvPr/>
        </p:nvSpPr>
        <p:spPr>
          <a:xfrm>
            <a:off x="76320" y="2819520"/>
            <a:ext cx="8915400" cy="2133360"/>
          </a:xfrm>
          <a:prstGeom prst="roundRect">
            <a:avLst>
              <a:gd name="adj" fmla="val 16667"/>
            </a:avLst>
          </a:prstGeom>
          <a:solidFill>
            <a:srgbClr val="ffcc00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Rounded Rectangle 4"/>
          <p:cNvSpPr/>
          <p:nvPr/>
        </p:nvSpPr>
        <p:spPr>
          <a:xfrm>
            <a:off x="76320" y="1523880"/>
            <a:ext cx="8915400" cy="1219320"/>
          </a:xfrm>
          <a:prstGeom prst="roundRect">
            <a:avLst>
              <a:gd name="adj" fmla="val 16667"/>
            </a:avLst>
          </a:prstGeom>
          <a:solidFill>
            <a:srgbClr val="ffcc00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Rounded Rectangle 6"/>
          <p:cNvSpPr/>
          <p:nvPr/>
        </p:nvSpPr>
        <p:spPr>
          <a:xfrm>
            <a:off x="76320" y="5105520"/>
            <a:ext cx="8915400" cy="1676160"/>
          </a:xfrm>
          <a:prstGeom prst="roundRect">
            <a:avLst>
              <a:gd name="adj" fmla="val 16667"/>
            </a:avLst>
          </a:prstGeom>
          <a:solidFill>
            <a:srgbClr val="ffcc00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 txBox="1"/>
          <p:nvPr/>
        </p:nvSpPr>
        <p:spPr>
          <a:xfrm>
            <a:off x="15228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dministrativna provjera prija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Završena 30. decembra 2013. g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Od ukupno prijavljenih 29 prijava, </a:t>
            </a:r>
            <a:r>
              <a:rPr b="1" lang="en-US" sz="2000" spc="-1" strike="noStrike" u="sng">
                <a:solidFill>
                  <a:srgbClr val="933133"/>
                </a:solidFill>
                <a:uFillTx/>
                <a:latin typeface="Arial"/>
              </a:rPr>
              <a:t>27 prijava je upućeno na prvu faz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 faza evalu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O</a:t>
            </a:r>
            <a:r>
              <a:rPr b="1" lang="sr-Latn-CS" sz="2000" spc="-1" strike="noStrike">
                <a:solidFill>
                  <a:srgbClr val="933133"/>
                </a:solidFill>
                <a:latin typeface="Arial"/>
              </a:rPr>
              <a:t>cjenj</a:t>
            </a: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ivanje</a:t>
            </a:r>
            <a:r>
              <a:rPr b="1" lang="sr-Latn-CS" sz="2000" spc="-1" strike="noStrike">
                <a:solidFill>
                  <a:srgbClr val="933133"/>
                </a:solidFill>
                <a:latin typeface="Arial"/>
              </a:rPr>
              <a:t> od strane 2 nezavisna naučna evaluatora, </a:t>
            </a:r>
            <a:r>
              <a:rPr b="0" lang="sr-Latn-CS" sz="2000" spc="-1" strike="noStrike">
                <a:solidFill>
                  <a:srgbClr val="933133"/>
                </a:solidFill>
                <a:latin typeface="Arial"/>
              </a:rPr>
              <a:t>eksperta iz određene naučne oblasti na koju se prijava odno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Fokus na </a:t>
            </a: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naučni i finansijski </a:t>
            </a: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aspekt projek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16 od ukupno 27 </a:t>
            </a: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prijava </a:t>
            </a: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prošlo u II fazu </a:t>
            </a: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(prosječna ocjena od strane dva evaluatora 70 ili više bod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I f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16 prijava ocijenjene od strane 3 međunarodna evalua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Fokus na </a:t>
            </a:r>
            <a:r>
              <a:rPr b="1" lang="sr-Latn-CS" sz="2000" spc="-1" strike="noStrike">
                <a:solidFill>
                  <a:srgbClr val="933133"/>
                </a:solidFill>
                <a:latin typeface="Arial"/>
              </a:rPr>
              <a:t>inovativnost, konkurentnost, održivost i</a:t>
            </a: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komercijalni </a:t>
            </a: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aspekt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Flowchart: Manual Operation 3"/>
          <p:cNvSpPr/>
          <p:nvPr/>
        </p:nvSpPr>
        <p:spPr>
          <a:xfrm>
            <a:off x="1219320" y="457200"/>
            <a:ext cx="65530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 evalu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"/>
          <p:cNvSpPr txBox="1"/>
          <p:nvPr/>
        </p:nvSpPr>
        <p:spPr>
          <a:xfrm>
            <a:off x="457200" y="18284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33133"/>
                </a:solidFill>
                <a:uFillTx/>
                <a:latin typeface="Arial"/>
              </a:rPr>
              <a:t>II faza (Finalna komisija za evaluacij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3133"/>
                </a:solidFill>
                <a:latin typeface="Arial"/>
              </a:rPr>
              <a:t>Komisija se </a:t>
            </a:r>
            <a:r>
              <a:rPr b="0" lang="sr-Latn-CS" sz="2400" spc="-1" strike="noStrike">
                <a:solidFill>
                  <a:srgbClr val="933133"/>
                </a:solidFill>
                <a:latin typeface="Arial"/>
              </a:rPr>
              <a:t>sastal</a:t>
            </a:r>
            <a:r>
              <a:rPr b="0" lang="en-US" sz="2400" spc="-1" strike="noStrike">
                <a:solidFill>
                  <a:srgbClr val="933133"/>
                </a:solidFill>
                <a:latin typeface="Arial"/>
              </a:rPr>
              <a:t>a </a:t>
            </a:r>
            <a:r>
              <a:rPr b="0" lang="sr-Latn-CS" sz="2400" spc="-1" strike="noStrike">
                <a:solidFill>
                  <a:srgbClr val="933133"/>
                </a:solidFill>
                <a:latin typeface="Arial"/>
              </a:rPr>
              <a:t>u Podgorici sredinom </a:t>
            </a:r>
            <a:r>
              <a:rPr b="0" lang="en-US" sz="2400" spc="-1" strike="noStrike">
                <a:solidFill>
                  <a:srgbClr val="933133"/>
                </a:solidFill>
                <a:latin typeface="Arial"/>
              </a:rPr>
              <a:t>mart</a:t>
            </a:r>
            <a:r>
              <a:rPr b="0" lang="sr-Latn-CS" sz="2400" spc="-1" strike="noStrike">
                <a:solidFill>
                  <a:srgbClr val="933133"/>
                </a:solidFill>
                <a:latin typeface="Arial"/>
              </a:rPr>
              <a:t>a 201</a:t>
            </a:r>
            <a:r>
              <a:rPr b="0" lang="en-US" sz="2400" spc="-1" strike="noStrike">
                <a:solidFill>
                  <a:srgbClr val="933133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133"/>
                </a:solidFill>
                <a:latin typeface="Arial"/>
              </a:rPr>
              <a:t>O</a:t>
            </a:r>
            <a:r>
              <a:rPr b="1" lang="sr-Latn-CS" sz="2400" spc="-1" strike="noStrike">
                <a:solidFill>
                  <a:srgbClr val="933133"/>
                </a:solidFill>
                <a:latin typeface="Arial"/>
              </a:rPr>
              <a:t>drža</a:t>
            </a:r>
            <a:r>
              <a:rPr b="1" lang="en-US" sz="2400" spc="-1" strike="noStrike">
                <a:solidFill>
                  <a:srgbClr val="933133"/>
                </a:solidFill>
                <a:latin typeface="Arial"/>
              </a:rPr>
              <a:t>ni </a:t>
            </a:r>
            <a:r>
              <a:rPr b="1" lang="sr-Latn-CS" sz="2400" spc="-1" strike="noStrike">
                <a:solidFill>
                  <a:srgbClr val="933133"/>
                </a:solidFill>
                <a:latin typeface="Arial"/>
              </a:rPr>
              <a:t>intervju</a:t>
            </a:r>
            <a:r>
              <a:rPr b="1" lang="en-US" sz="2400" spc="-1" strike="noStrike">
                <a:solidFill>
                  <a:srgbClr val="933133"/>
                </a:solidFill>
                <a:latin typeface="Arial"/>
              </a:rPr>
              <a:t>i</a:t>
            </a:r>
            <a:r>
              <a:rPr b="1" lang="sr-Latn-CS" sz="2400" spc="-1" strike="noStrike">
                <a:solidFill>
                  <a:srgbClr val="933133"/>
                </a:solidFill>
                <a:latin typeface="Arial"/>
              </a:rPr>
              <a:t> sa</a:t>
            </a:r>
            <a:r>
              <a:rPr b="0" lang="sr-Latn-CS" sz="2400" spc="-1" strike="noStrike">
                <a:solidFill>
                  <a:srgbClr val="9331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33133"/>
                </a:solidFill>
                <a:latin typeface="Arial"/>
              </a:rPr>
              <a:t>svih 16</a:t>
            </a:r>
            <a:r>
              <a:rPr b="1" lang="sr-Latn-CS" sz="2400" spc="-1" strike="noStrike">
                <a:solidFill>
                  <a:srgbClr val="933133"/>
                </a:solidFill>
                <a:latin typeface="Arial"/>
              </a:rPr>
              <a:t> podnosioca pri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Prezentirane projektne ideje od strane istraživačkih timo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Komisija postavljala dodatna pitan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33133"/>
                </a:solidFill>
                <a:latin typeface="Arial"/>
              </a:rPr>
              <a:t>Komisija pripremi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Kona</a:t>
            </a:r>
            <a:r>
              <a:rPr b="1" lang="sr-Latn-RS" sz="2000" spc="-1" strike="noStrike">
                <a:solidFill>
                  <a:srgbClr val="933133"/>
                </a:solidFill>
                <a:latin typeface="Arial"/>
              </a:rPr>
              <a:t>č</a:t>
            </a:r>
            <a:r>
              <a:rPr b="1" lang="sr-Latn-CS" sz="2000" spc="-1" strike="noStrike">
                <a:solidFill>
                  <a:srgbClr val="933133"/>
                </a:solidFill>
                <a:latin typeface="Arial"/>
              </a:rPr>
              <a:t>nu rang listu prija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33133"/>
                </a:solidFill>
                <a:latin typeface="Arial"/>
              </a:rPr>
              <a:t>Izvještaje o evaluacij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Preporuku Ministarstvu za finans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Flowchart: Manual Operation 4"/>
          <p:cNvSpPr/>
          <p:nvPr/>
        </p:nvSpPr>
        <p:spPr>
          <a:xfrm>
            <a:off x="1219320" y="609480"/>
            <a:ext cx="65530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 evalu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933133"/>
                </a:solidFill>
                <a:uFillTx/>
                <a:latin typeface="Arial"/>
              </a:rPr>
              <a:t>PREPORUKA FINALNE KOMIS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33133"/>
                </a:solidFill>
                <a:uFillTx/>
                <a:latin typeface="Arial"/>
              </a:rPr>
              <a:t>4 projekta su posebno preporučena</a:t>
            </a:r>
            <a:r>
              <a:rPr b="1" lang="sr-Latn-CS" sz="2400" spc="-1" strike="noStrike" u="sng">
                <a:solidFill>
                  <a:srgbClr val="933133"/>
                </a:solidFill>
                <a:uFillTx/>
                <a:latin typeface="Arial"/>
              </a:rPr>
              <a:t> za finansir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33133"/>
                </a:solidFill>
                <a:latin typeface="Arial"/>
              </a:rPr>
              <a:t>3 projekta ocijenjena pozitivno i preporučena za finansiranje uz odgovarajuće korek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33133"/>
                </a:solidFill>
                <a:latin typeface="Arial"/>
              </a:rPr>
              <a:t>9 projekata nije preporučeno za finansir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Flowchart: Manual Operation 3"/>
          <p:cNvSpPr/>
          <p:nvPr/>
        </p:nvSpPr>
        <p:spPr>
          <a:xfrm>
            <a:off x="1219320" y="609480"/>
            <a:ext cx="65530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zultati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 evalu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9" name="Table 4" descr=""/>
          <p:cNvPicPr/>
          <p:nvPr/>
        </p:nvPicPr>
        <p:blipFill>
          <a:blip r:embed="rId1"/>
          <a:stretch/>
        </p:blipFill>
        <p:spPr>
          <a:xfrm>
            <a:off x="-73080" y="1146240"/>
            <a:ext cx="9137880" cy="5718240"/>
          </a:xfrm>
          <a:prstGeom prst="rect">
            <a:avLst/>
          </a:prstGeom>
          <a:ln w="0">
            <a:noFill/>
          </a:ln>
        </p:spPr>
      </p:pic>
      <p:sp>
        <p:nvSpPr>
          <p:cNvPr id="2510" name="Flowchart: Manual Operation 5"/>
          <p:cNvSpPr/>
          <p:nvPr/>
        </p:nvSpPr>
        <p:spPr>
          <a:xfrm>
            <a:off x="914400" y="380880"/>
            <a:ext cx="7315200" cy="76212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ona</a:t>
            </a:r>
            <a:r>
              <a:rPr b="1" lang="sr-Latn-RS" sz="2400" spc="-1" strike="noStrike">
                <a:solidFill>
                  <a:srgbClr val="ffffff"/>
                </a:solidFill>
                <a:latin typeface="Arial"/>
              </a:rPr>
              <a:t>čna rang lista projek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Flowchart: Manual Operation 3"/>
          <p:cNvSpPr/>
          <p:nvPr/>
        </p:nvSpPr>
        <p:spPr>
          <a:xfrm>
            <a:off x="609480" y="533520"/>
            <a:ext cx="7620120" cy="76176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ebno preporu</a:t>
            </a:r>
            <a:r>
              <a:rPr b="1" lang="sr-Latn-RS" sz="2400" spc="-1" strike="noStrike">
                <a:solidFill>
                  <a:srgbClr val="ffffff"/>
                </a:solidFill>
                <a:latin typeface="Arial"/>
              </a:rPr>
              <a:t>čeni projek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Rounded Rectangle 6"/>
          <p:cNvSpPr/>
          <p:nvPr/>
        </p:nvSpPr>
        <p:spPr>
          <a:xfrm>
            <a:off x="228600" y="1600200"/>
            <a:ext cx="8458200" cy="1219320"/>
          </a:xfrm>
          <a:prstGeom prst="roundRect">
            <a:avLst>
              <a:gd name="adj" fmla="val 18907"/>
            </a:avLst>
          </a:prstGeom>
          <a:solidFill>
            <a:srgbClr val="9c34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              </a:t>
            </a:r>
            <a:r>
              <a:rPr b="1" lang="en-US" sz="2000" spc="-1" strike="noStrike" u="sng">
                <a:solidFill>
                  <a:srgbClr val="ffdebe"/>
                </a:solidFill>
                <a:uFillTx/>
                <a:latin typeface="Arial Narrow"/>
                <a:ea typeface="Times New Roman"/>
              </a:rPr>
              <a:t>CS-ICT</a:t>
            </a:r>
            <a:r>
              <a:rPr b="1" lang="en-US" sz="2000" spc="-1" strike="noStrike">
                <a:solidFill>
                  <a:srgbClr val="ffdebe"/>
                </a:solidFill>
                <a:latin typeface="Arial Narro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debe"/>
                </a:solidFill>
                <a:latin typeface="Arial Narrow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ffdebe"/>
                </a:solidFill>
                <a:latin typeface="Arial Narrow"/>
                <a:ea typeface="Times New Roman"/>
              </a:rPr>
              <a:t>                                 </a:t>
            </a:r>
            <a:r>
              <a:rPr b="1" lang="sr-Latn-RS" sz="2000" spc="-1" strike="noStrike">
                <a:solidFill>
                  <a:srgbClr val="ffdebe"/>
                </a:solidFill>
                <a:latin typeface="Arial Narrow"/>
                <a:ea typeface="Times New Roman"/>
              </a:rPr>
              <a:t>Iznos traženog granta:  387.294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lektrotehni</a:t>
            </a:r>
            <a:r>
              <a:rPr b="1" lang="sr-Latn-R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č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ki fakultet</a:t>
            </a:r>
            <a:r>
              <a:rPr b="1" lang="sr-Latn-R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U</a:t>
            </a:r>
            <a:r>
              <a:rPr b="1" lang="sr-Latn-R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G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)</a:t>
            </a:r>
            <a:r>
              <a:rPr b="1" lang="sr-Latn-R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</a:t>
            </a:r>
            <a:r>
              <a:rPr b="1" lang="sr-Latn-RS" sz="2000" spc="-1" strike="noStrike">
                <a:solidFill>
                  <a:srgbClr val="ffffff"/>
                </a:solidFill>
                <a:latin typeface="Arial Narrow"/>
              </a:rPr>
              <a:t>Rukovodilac: prof. dr Srđan Stankov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N</a:t>
            </a:r>
            <a:r>
              <a:rPr b="1" lang="sr-Latn-RS" sz="2000" spc="-1" strike="noStrike">
                <a:solidFill>
                  <a:srgbClr val="ffff00"/>
                </a:solidFill>
                <a:latin typeface="Arial Narrow"/>
              </a:rPr>
              <a:t>ovi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 ICT </a:t>
            </a:r>
            <a:r>
              <a:rPr b="1" lang="sr-Latn-RS" sz="2000" spc="-1" strike="noStrike">
                <a:solidFill>
                  <a:srgbClr val="ffff00"/>
                </a:solidFill>
                <a:latin typeface="Arial Narrow"/>
              </a:rPr>
              <a:t>trendovi zasnovani na značajno manjem broju podataka/ mjerenja i njihova primjena u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 multimedi</a:t>
            </a:r>
            <a:r>
              <a:rPr b="1" lang="sr-Latn-RS" sz="2000" spc="-1" strike="noStrike">
                <a:solidFill>
                  <a:srgbClr val="ffff00"/>
                </a:solidFill>
                <a:latin typeface="Arial Narrow"/>
              </a:rPr>
              <a:t>j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a</a:t>
            </a:r>
            <a:r>
              <a:rPr b="1" lang="sr-Latn-RS" sz="2000" spc="-1" strike="noStrike">
                <a:solidFill>
                  <a:srgbClr val="ffff00"/>
                </a:solidFill>
                <a:latin typeface="Arial Narrow"/>
              </a:rPr>
              <a:t>ma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,</a:t>
            </a:r>
            <a:r>
              <a:rPr b="1" lang="sr-Latn-RS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biomedicin</a:t>
            </a:r>
            <a:r>
              <a:rPr b="1" lang="sr-Latn-RS" sz="2000" spc="-1" strike="noStrike">
                <a:solidFill>
                  <a:srgbClr val="ffff00"/>
                </a:solidFill>
                <a:latin typeface="Arial Narrow"/>
              </a:rPr>
              <a:t>i i komunikacij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Rounded Rectangle 7"/>
          <p:cNvSpPr/>
          <p:nvPr/>
        </p:nvSpPr>
        <p:spPr>
          <a:xfrm>
            <a:off x="228600" y="2971800"/>
            <a:ext cx="8458200" cy="1143000"/>
          </a:xfrm>
          <a:prstGeom prst="roundRect">
            <a:avLst>
              <a:gd name="adj" fmla="val 16667"/>
            </a:avLst>
          </a:prstGeom>
          <a:solidFill>
            <a:srgbClr val="9331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00"/>
                </a:solidFill>
                <a:latin typeface="Arial Narrow"/>
              </a:rPr>
              <a:t>              </a:t>
            </a:r>
            <a:r>
              <a:rPr b="1" lang="en-US" sz="2000" spc="-1" strike="noStrike" u="sng">
                <a:solidFill>
                  <a:srgbClr val="ffdebe"/>
                </a:solidFill>
                <a:uFillTx/>
                <a:latin typeface="Arial Narrow"/>
              </a:rPr>
              <a:t>PRODE</a:t>
            </a:r>
            <a:r>
              <a:rPr b="0" lang="en-US" sz="2000" spc="-1" strike="noStrike">
                <a:solidFill>
                  <a:srgbClr val="ffdebe"/>
                </a:solidFill>
                <a:latin typeface="Arial Narrow"/>
              </a:rPr>
              <a:t> </a:t>
            </a:r>
            <a:r>
              <a:rPr b="0" lang="sr-Latn-RS" sz="2000" spc="-1" strike="noStrike">
                <a:solidFill>
                  <a:srgbClr val="ffdebe"/>
                </a:solidFill>
                <a:latin typeface="Arial Narrow"/>
              </a:rPr>
              <a:t>                                 </a:t>
            </a:r>
            <a:r>
              <a:rPr b="1" lang="sr-Latn-RS" sz="2000" spc="-1" strike="noStrike">
                <a:solidFill>
                  <a:srgbClr val="ffdebe"/>
                </a:solidFill>
                <a:latin typeface="Arial Narrow"/>
              </a:rPr>
              <a:t>I</a:t>
            </a:r>
            <a:r>
              <a:rPr b="1" lang="sr-Latn-RS" sz="2000" spc="-1" strike="noStrike">
                <a:solidFill>
                  <a:srgbClr val="ffdebe"/>
                </a:solidFill>
                <a:latin typeface="Arial Narrow"/>
                <a:ea typeface="Times New Roman"/>
              </a:rPr>
              <a:t>znos traženog granta:  396.700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Fakultet za politehniku (</a:t>
            </a:r>
            <a:r>
              <a:rPr b="1" lang="sr-Latn-RS" sz="2000" spc="-1" strike="noStrike">
                <a:solidFill>
                  <a:srgbClr val="ffffff"/>
                </a:solidFill>
                <a:latin typeface="Arial Narrow"/>
              </a:rPr>
              <a:t>UDG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1" lang="sr-Latn-RS" sz="2000" spc="-1" strike="noStrike">
                <a:solidFill>
                  <a:srgbClr val="ffffff"/>
                </a:solidFill>
                <a:latin typeface="Arial Narrow"/>
              </a:rPr>
              <a:t>          Rukovodilac: prof. dr Vladimir Ma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 Narrow"/>
              </a:rPr>
              <a:t>Laboratorija za dizajn proizvoda, uključujući discipline kao što su grafički, modni i dizajn enterij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Rounded Rectangle 8"/>
          <p:cNvSpPr/>
          <p:nvPr/>
        </p:nvSpPr>
        <p:spPr>
          <a:xfrm>
            <a:off x="228600" y="4267080"/>
            <a:ext cx="8458200" cy="1143000"/>
          </a:xfrm>
          <a:prstGeom prst="roundRect">
            <a:avLst>
              <a:gd name="adj" fmla="val 16667"/>
            </a:avLst>
          </a:prstGeom>
          <a:solidFill>
            <a:srgbClr val="9331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debe"/>
                </a:solidFill>
                <a:latin typeface="Arial Narrow"/>
              </a:rPr>
              <a:t>              </a:t>
            </a:r>
            <a:r>
              <a:rPr b="1" lang="en-US" sz="2000" spc="-1" strike="noStrike" u="sng">
                <a:solidFill>
                  <a:srgbClr val="ffdebe"/>
                </a:solidFill>
                <a:uFillTx/>
                <a:latin typeface="Arial Narrow"/>
              </a:rPr>
              <a:t>LOVĆEN</a:t>
            </a:r>
            <a:r>
              <a:rPr b="1" lang="sr-Latn-RS" sz="2000" spc="-1" strike="noStrike">
                <a:solidFill>
                  <a:srgbClr val="ffdebe"/>
                </a:solidFill>
                <a:latin typeface="Arial Narrow"/>
              </a:rPr>
              <a:t>                                I</a:t>
            </a:r>
            <a:r>
              <a:rPr b="1" lang="sr-Latn-RS" sz="2000" spc="-1" strike="noStrike">
                <a:solidFill>
                  <a:srgbClr val="ffdebe"/>
                </a:solidFill>
                <a:latin typeface="Arial Narrow"/>
                <a:ea typeface="Times New Roman"/>
              </a:rPr>
              <a:t>znos traženog granta:  397.998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debe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Biotehnički fakultet (</a:t>
            </a:r>
            <a:r>
              <a:rPr b="1" lang="sr-Latn-RS" sz="2000" spc="-1" strike="noStrike">
                <a:solidFill>
                  <a:srgbClr val="ffffff"/>
                </a:solidFill>
                <a:latin typeface="Arial Narrow"/>
              </a:rPr>
              <a:t>UCG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1" lang="sr-Latn-RS" sz="2000" spc="-1" strike="noStrike">
                <a:solidFill>
                  <a:srgbClr val="ffffff"/>
                </a:solidFill>
                <a:latin typeface="Arial Narrow"/>
              </a:rPr>
              <a:t>              Rukovodilac: dr Igor Pajov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Nad</a:t>
            </a:r>
            <a:r>
              <a:rPr b="1" lang="sr-Latn-RS" sz="2000" spc="-1" strike="noStrike">
                <a:solidFill>
                  <a:srgbClr val="ffff00"/>
                </a:solidFill>
                <a:latin typeface="Arial Narrow"/>
              </a:rPr>
              <a:t>z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or nad invazivnim i domaćim vrstama komaraca i patogenima koje mogu prenijeti u Crnoj G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Rounded Rectangle 9"/>
          <p:cNvSpPr/>
          <p:nvPr/>
        </p:nvSpPr>
        <p:spPr>
          <a:xfrm>
            <a:off x="228600" y="5562720"/>
            <a:ext cx="8458200" cy="1066680"/>
          </a:xfrm>
          <a:prstGeom prst="roundRect">
            <a:avLst>
              <a:gd name="adj" fmla="val 16667"/>
            </a:avLst>
          </a:prstGeom>
          <a:solidFill>
            <a:srgbClr val="9331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2aa"/>
                </a:solidFill>
                <a:latin typeface="Arial Narrow"/>
                <a:ea typeface="Times New Roman"/>
              </a:rPr>
              <a:t>              </a:t>
            </a:r>
            <a:r>
              <a:rPr b="1" lang="en-US" sz="2000" spc="-1" strike="noStrike" u="sng">
                <a:solidFill>
                  <a:srgbClr val="ffdebe"/>
                </a:solidFill>
                <a:uFillTx/>
                <a:latin typeface="Arial Narrow"/>
                <a:ea typeface="Times New Roman"/>
              </a:rPr>
              <a:t>SUST-MARINA</a:t>
            </a:r>
            <a:r>
              <a:rPr b="1" lang="en-US" sz="2000" spc="-1" strike="noStrike">
                <a:solidFill>
                  <a:srgbClr val="ffdebe"/>
                </a:solidFill>
                <a:latin typeface="Arial Narrow"/>
                <a:ea typeface="Times New Roman"/>
              </a:rPr>
              <a:t>                      Iznos traženog granta:  255.366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akultet za pomorstvo (UCG)        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Rukovodilac: prof. dr Branislav Dragov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Primjena i promocija koncepta održivog razvoja na AD Marina 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"/>
          <p:cNvSpPr txBox="1"/>
          <p:nvPr/>
        </p:nvSpPr>
        <p:spPr>
          <a:xfrm>
            <a:off x="228600" y="19047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33133"/>
                </a:solidFill>
                <a:latin typeface="Arial"/>
              </a:rPr>
              <a:t>PREGOVORI O ZAKLJUČENJU UGOVORA O DODJELI GRANT</a:t>
            </a: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33133"/>
                </a:solidFill>
                <a:latin typeface="Arial"/>
              </a:rPr>
              <a:t>4 prvorangirana tima </a:t>
            </a:r>
            <a:r>
              <a:rPr b="0" lang="sr-Latn-CS" sz="2000" spc="-1" strike="noStrike">
                <a:solidFill>
                  <a:srgbClr val="933133"/>
                </a:solidFill>
                <a:latin typeface="Arial"/>
              </a:rPr>
              <a:t>će biti pozvana na pregov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933133"/>
                </a:solidFill>
                <a:latin typeface="Arial"/>
              </a:rPr>
              <a:t>Usaglašavanje svih aspekata prijav</a:t>
            </a: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a</a:t>
            </a:r>
            <a:r>
              <a:rPr b="0" lang="sr-Latn-CS" sz="2000" spc="-1" strike="noStrike">
                <a:solidFill>
                  <a:srgbClr val="933133"/>
                </a:solidFill>
                <a:latin typeface="Arial"/>
              </a:rPr>
              <a:t> na osnovu komentara i preporuka međunarodnih evalua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933133"/>
                </a:solidFill>
                <a:latin typeface="Arial"/>
              </a:rPr>
              <a:t>Aspekti za usaglašavanje: naučni, pravni, finansijski i tehnič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33133"/>
                </a:solidFill>
                <a:latin typeface="Arial"/>
              </a:rPr>
              <a:t>POTPISIVANJE UGOV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33133"/>
                </a:solidFill>
                <a:latin typeface="Arial"/>
              </a:rPr>
              <a:t>Praćenje realizacije projek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33133"/>
                </a:solidFill>
                <a:latin typeface="Arial"/>
              </a:rPr>
              <a:t>Ministarstvo nauke i Svjetska banka vršiće kontinuirani monitoring i periodičnu nezavisnu evaluaciju</a:t>
            </a:r>
            <a:r>
              <a:rPr b="0" lang="en-US" sz="2400" spc="-1" strike="noStrike">
                <a:solidFill>
                  <a:srgbClr val="933133"/>
                </a:solidFill>
                <a:latin typeface="Arial"/>
              </a:rPr>
              <a:t> realizacije projek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Flowchart: Manual Operation 4"/>
          <p:cNvSpPr/>
          <p:nvPr/>
        </p:nvSpPr>
        <p:spPr>
          <a:xfrm>
            <a:off x="1600200" y="609480"/>
            <a:ext cx="58672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aredni kora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3436"/>
                </a:solidFill>
                <a:latin typeface="Arial"/>
              </a:rPr>
              <a:t>NA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133"/>
                </a:solidFill>
                <a:latin typeface="Arial"/>
              </a:rPr>
              <a:t>Novi konkurs za grantove istraživanja i razvo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Nakon završenih pregovora sa 4 izabrana projekta - sredinom 2014. g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Slični uslovi prijavlji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Unaprijed će biti poznat datum novog Konku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Otvoren 2-3 mjese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Organizovanje radionica za zainteresovane kand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20000"/>
                </a:solidFill>
                <a:uFillTx/>
                <a:latin typeface="Arial"/>
              </a:rPr>
              <a:t>SREĆ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Flowchart: Manual Operation 5"/>
          <p:cNvSpPr/>
          <p:nvPr/>
        </p:nvSpPr>
        <p:spPr>
          <a:xfrm>
            <a:off x="1600200" y="609480"/>
            <a:ext cx="58672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aredni kora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"/>
          <p:cNvSpPr txBox="1"/>
          <p:nvPr/>
        </p:nvSpPr>
        <p:spPr>
          <a:xfrm>
            <a:off x="304560" y="1828800"/>
            <a:ext cx="8305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3133"/>
                </a:solidFill>
                <a:latin typeface="Arial"/>
              </a:rPr>
              <a:t>Integrisati naučni i stručni potencijal u Crnoj Gori kako bi se doprinijelo razvoju društva zasnovanog na znan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3133"/>
                </a:solidFill>
                <a:latin typeface="Arial"/>
              </a:rPr>
              <a:t>Jačanje kvalitetnih i održivih partnerstava koja pokazuju potencijal da integrišu istraživanje u dominantne ekonomske pokretače Crne Gore i da prerastu u buduće centre uspješ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Rectangle 8"/>
          <p:cNvSpPr/>
          <p:nvPr/>
        </p:nvSpPr>
        <p:spPr>
          <a:xfrm>
            <a:off x="517680" y="573120"/>
            <a:ext cx="8229600" cy="576360"/>
          </a:xfrm>
          <a:prstGeom prst="rect">
            <a:avLst/>
          </a:prstGeom>
          <a:solidFill>
            <a:srgbClr val="9c3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Šta je cilj programa istraživačkih granto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0" name="Picture 3" descr="MNAmejl.JPG"/>
          <p:cNvPicPr/>
          <p:nvPr/>
        </p:nvPicPr>
        <p:blipFill>
          <a:blip r:embed="rId1"/>
          <a:stretch/>
        </p:blipFill>
        <p:spPr>
          <a:xfrm>
            <a:off x="642960" y="1828800"/>
            <a:ext cx="1947960" cy="4051440"/>
          </a:xfrm>
          <a:prstGeom prst="rect">
            <a:avLst/>
          </a:prstGeom>
          <a:ln w="0">
            <a:noFill/>
          </a:ln>
        </p:spPr>
      </p:pic>
      <p:sp>
        <p:nvSpPr>
          <p:cNvPr id="2521" name="Rectangle 3"/>
          <p:cNvSpPr/>
          <p:nvPr/>
        </p:nvSpPr>
        <p:spPr>
          <a:xfrm>
            <a:off x="3276720" y="1676520"/>
            <a:ext cx="52210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Saša Ivanov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sa.ivanovic@mna.gov.m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Projektni menadžer za istraž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Rectangle 4"/>
          <p:cNvSpPr/>
          <p:nvPr/>
        </p:nvSpPr>
        <p:spPr>
          <a:xfrm>
            <a:off x="533520" y="610704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60000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f60000"/>
                </a:solidFill>
                <a:latin typeface="Arial"/>
              </a:rPr>
              <a:t>mna.gov.m</a:t>
            </a:r>
            <a:r>
              <a:rPr b="1" lang="hr-HR" sz="1800" spc="-1" strike="noStrike">
                <a:solidFill>
                  <a:srgbClr val="f60000"/>
                </a:solidFill>
                <a:latin typeface="Arial"/>
              </a:rPr>
              <a:t>e                                          www.heric.m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3" name="Picture 6" descr="Heric logo"/>
          <p:cNvPicPr/>
          <p:nvPr/>
        </p:nvPicPr>
        <p:blipFill>
          <a:blip r:embed="rId2"/>
          <a:stretch/>
        </p:blipFill>
        <p:spPr>
          <a:xfrm>
            <a:off x="4267080" y="4267080"/>
            <a:ext cx="3343320" cy="1447920"/>
          </a:xfrm>
          <a:prstGeom prst="rect">
            <a:avLst/>
          </a:prstGeom>
          <a:ln w="0">
            <a:noFill/>
          </a:ln>
        </p:spPr>
      </p:pic>
      <p:sp>
        <p:nvSpPr>
          <p:cNvPr id="2524" name="Flowchart: Manual Operation 7"/>
          <p:cNvSpPr/>
          <p:nvPr/>
        </p:nvSpPr>
        <p:spPr>
          <a:xfrm>
            <a:off x="1600200" y="533520"/>
            <a:ext cx="65530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vala na pažn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"/>
          <p:cNvSpPr txBox="1"/>
          <p:nvPr/>
        </p:nvSpPr>
        <p:spPr>
          <a:xfrm>
            <a:off x="151920" y="14479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933133"/>
                </a:solidFill>
                <a:latin typeface="Arial"/>
              </a:rPr>
              <a:t>Podržati istraživačke timov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933133"/>
                </a:solidFill>
                <a:latin typeface="Arial"/>
              </a:rPr>
              <a:t>Podržati stvaranje partnerstava između istraživačkih ustanova u Crnoj Gori i inostranstvu, kao </a:t>
            </a:r>
            <a:r>
              <a:rPr b="0" lang="en-US" sz="2600" spc="-1" strike="noStrike">
                <a:solidFill>
                  <a:srgbClr val="933133"/>
                </a:solidFill>
                <a:latin typeface="Arial"/>
              </a:rPr>
              <a:t>jačanje saradnje sa</a:t>
            </a:r>
            <a:r>
              <a:rPr b="0" lang="sr-Latn-BA" sz="2600" spc="-1" strike="noStrike">
                <a:solidFill>
                  <a:srgbClr val="933133"/>
                </a:solidFill>
                <a:latin typeface="Arial"/>
              </a:rPr>
              <a:t> privrednim sektorom iz zemlje i inostranstv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933133"/>
                </a:solidFill>
                <a:latin typeface="Arial"/>
              </a:rPr>
              <a:t>Podići nivo ulaganja privrednog sektora u istraživanje i razvoj i jačanje istraživačko-razvojnih kapaciteta u sektoru privred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933133"/>
                </a:solidFill>
                <a:latin typeface="Arial"/>
              </a:rPr>
              <a:t>Podstaći mobilnost istraživača i ubrzati transfer znanj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933133"/>
                </a:solidFill>
                <a:latin typeface="Arial"/>
              </a:rPr>
              <a:t>Modernizovati istraživačku opremu i stvoriti uslove za zajedničko korišćenje postojeće i nove opreme; 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933133"/>
                </a:solidFill>
                <a:latin typeface="Arial"/>
              </a:rPr>
              <a:t>Podstaći komercijalizaciju rezultata naučnih istraživanj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Title 1"/>
          <p:cNvSpPr/>
          <p:nvPr/>
        </p:nvSpPr>
        <p:spPr>
          <a:xfrm>
            <a:off x="533520" y="457200"/>
            <a:ext cx="8258040" cy="828720"/>
          </a:xfrm>
          <a:prstGeom prst="rect">
            <a:avLst/>
          </a:prstGeom>
          <a:solidFill>
            <a:srgbClr val="9c3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Specifični ciljevi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traživačkih grant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28400" y="619200"/>
            <a:ext cx="8258040" cy="828720"/>
          </a:xfrm>
          <a:prstGeom prst="rect">
            <a:avLst/>
          </a:prstGeom>
          <a:solidFill>
            <a:srgbClr val="9c343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oritetne oblasti istra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3" name="Diagram 3" descr=""/>
          <p:cNvPicPr/>
          <p:nvPr/>
        </p:nvPicPr>
        <p:blipFill>
          <a:blip r:embed="rId1"/>
          <a:stretch/>
        </p:blipFill>
        <p:spPr>
          <a:xfrm>
            <a:off x="987480" y="1657440"/>
            <a:ext cx="701676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"/>
          <p:cNvSpPr txBox="1"/>
          <p:nvPr/>
        </p:nvSpPr>
        <p:spPr>
          <a:xfrm>
            <a:off x="5335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3133"/>
                </a:solidFill>
                <a:latin typeface="Arial"/>
              </a:rPr>
              <a:t>Nosilac istraživanja je licencirana naučnoistraživačka ustanova iz Crne G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33133"/>
                </a:solidFill>
                <a:latin typeface="Arial"/>
              </a:rPr>
              <a:t>Nosilac istraživanja se mora prijaviti u partnerstvu sa </a:t>
            </a:r>
            <a:r>
              <a:rPr b="0" lang="en-US" sz="2800" spc="-1" strike="noStrike">
                <a:solidFill>
                  <a:srgbClr val="933133"/>
                </a:solidFill>
                <a:latin typeface="Arial"/>
              </a:rPr>
              <a:t>minimum jednom </a:t>
            </a:r>
            <a:r>
              <a:rPr b="0" lang="hr-HR" sz="2800" spc="-1" strike="noStrike">
                <a:solidFill>
                  <a:srgbClr val="933133"/>
                </a:solidFill>
                <a:latin typeface="Arial"/>
              </a:rPr>
              <a:t>istraživačkom ustanovom</a:t>
            </a:r>
            <a:r>
              <a:rPr b="0" lang="en-US" sz="2800" spc="-1" strike="noStrike">
                <a:solidFill>
                  <a:srgbClr val="933133"/>
                </a:solidFill>
                <a:latin typeface="Arial"/>
              </a:rPr>
              <a:t> iz inostranstva</a:t>
            </a:r>
            <a:r>
              <a:rPr b="0" lang="hr-HR" sz="2800" spc="-1" strike="noStrike">
                <a:solidFill>
                  <a:srgbClr val="933133"/>
                </a:solidFill>
                <a:latin typeface="Arial"/>
              </a:rPr>
              <a:t> i </a:t>
            </a:r>
            <a:r>
              <a:rPr b="0" lang="en-US" sz="2800" spc="-1" strike="noStrike">
                <a:solidFill>
                  <a:srgbClr val="933133"/>
                </a:solidFill>
                <a:latin typeface="Arial"/>
              </a:rPr>
              <a:t>jednim </a:t>
            </a:r>
            <a:r>
              <a:rPr b="0" lang="hr-HR" sz="2800" spc="-1" strike="noStrike">
                <a:solidFill>
                  <a:srgbClr val="933133"/>
                </a:solidFill>
                <a:latin typeface="Arial"/>
              </a:rPr>
              <a:t>partnerom iz priv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33133"/>
                </a:solidFill>
                <a:latin typeface="Arial"/>
              </a:rPr>
              <a:t>Projekat mora biti primijenjen</a:t>
            </a:r>
            <a:r>
              <a:rPr b="0" lang="en-US" sz="2800" spc="-1" strike="noStrike">
                <a:solidFill>
                  <a:srgbClr val="933133"/>
                </a:solidFill>
                <a:latin typeface="Arial"/>
              </a:rPr>
              <a:t>i</a:t>
            </a:r>
            <a:r>
              <a:rPr b="0" lang="hr-HR" sz="2800" spc="-1" strike="noStrike">
                <a:solidFill>
                  <a:srgbClr val="933133"/>
                </a:solidFill>
                <a:latin typeface="Arial"/>
              </a:rPr>
              <a:t> ili razvojn</a:t>
            </a:r>
            <a:r>
              <a:rPr b="0" lang="en-US" sz="2800" spc="-1" strike="noStrike">
                <a:solidFill>
                  <a:srgbClr val="933133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spcAft>
                <a:spcPts val="1199"/>
              </a:spcAft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33133"/>
                </a:solidFill>
                <a:latin typeface="Arial"/>
              </a:rPr>
              <a:t>Preporučuju se interdisciplinarni proj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Title 1"/>
          <p:cNvSpPr/>
          <p:nvPr/>
        </p:nvSpPr>
        <p:spPr>
          <a:xfrm>
            <a:off x="428760" y="542880"/>
            <a:ext cx="8258040" cy="828720"/>
          </a:xfrm>
          <a:prstGeom prst="rect">
            <a:avLst/>
          </a:prstGeom>
          <a:solidFill>
            <a:srgbClr val="9c3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lovi za prijavljivanje na Konk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62120"/>
          </a:xfrm>
          <a:prstGeom prst="rect">
            <a:avLst/>
          </a:prstGeom>
          <a:solidFill>
            <a:srgbClr val="9c343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Konkurs z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djelu grant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 txBox="1"/>
          <p:nvPr/>
        </p:nvSpPr>
        <p:spPr>
          <a:xfrm>
            <a:off x="4572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3133"/>
                </a:solidFill>
                <a:latin typeface="Arial"/>
              </a:rPr>
              <a:t>O</a:t>
            </a:r>
            <a:r>
              <a:rPr b="0" lang="bs-BA" sz="2400" spc="-1" strike="noStrike">
                <a:solidFill>
                  <a:srgbClr val="933133"/>
                </a:solidFill>
                <a:latin typeface="Arial"/>
              </a:rPr>
              <a:t>bjav</a:t>
            </a:r>
            <a:r>
              <a:rPr b="0" lang="en-US" sz="2400" spc="-1" strike="noStrike">
                <a:solidFill>
                  <a:srgbClr val="933133"/>
                </a:solidFill>
                <a:latin typeface="Arial"/>
              </a:rPr>
              <a:t>a </a:t>
            </a:r>
            <a:r>
              <a:rPr b="0" lang="bs-BA" sz="2400" spc="-1" strike="noStrike">
                <a:solidFill>
                  <a:srgbClr val="933133"/>
                </a:solidFill>
                <a:latin typeface="Arial"/>
              </a:rPr>
              <a:t>Konkurs</a:t>
            </a:r>
            <a:r>
              <a:rPr b="0" lang="en-US" sz="2400" spc="-1" strike="noStrike">
                <a:solidFill>
                  <a:srgbClr val="933133"/>
                </a:solidFill>
                <a:latin typeface="Arial"/>
              </a:rPr>
              <a:t>a</a:t>
            </a:r>
            <a:r>
              <a:rPr b="0" lang="bs-BA" sz="2400" spc="-1" strike="noStrike">
                <a:solidFill>
                  <a:srgbClr val="9331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33133"/>
                </a:solidFill>
                <a:latin typeface="Arial"/>
              </a:rPr>
              <a:t>18</a:t>
            </a:r>
            <a:r>
              <a:rPr b="1" lang="bs-BA" sz="2400" spc="-1" strike="noStrike">
                <a:solidFill>
                  <a:srgbClr val="933133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933133"/>
                </a:solidFill>
                <a:latin typeface="Arial"/>
              </a:rPr>
              <a:t>oktobar</a:t>
            </a:r>
            <a:r>
              <a:rPr b="1" lang="bs-BA" sz="2400" spc="-1" strike="noStrike">
                <a:solidFill>
                  <a:srgbClr val="933133"/>
                </a:solidFill>
                <a:latin typeface="Arial"/>
              </a:rPr>
              <a:t> 2013</a:t>
            </a:r>
            <a:r>
              <a:rPr b="0" lang="bs-BA" sz="2400" spc="-1" strike="noStrike">
                <a:solidFill>
                  <a:srgbClr val="933133"/>
                </a:solidFill>
                <a:latin typeface="Arial"/>
              </a:rPr>
              <a:t>. g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33133"/>
                </a:solidFill>
                <a:latin typeface="Arial"/>
              </a:rPr>
              <a:t>Rok za dostavljanje </a:t>
            </a:r>
            <a:r>
              <a:rPr b="0" lang="en-US" sz="2400" spc="-1" strike="noStrike">
                <a:solidFill>
                  <a:srgbClr val="933133"/>
                </a:solidFill>
                <a:latin typeface="Arial"/>
              </a:rPr>
              <a:t>prijava</a:t>
            </a:r>
            <a:r>
              <a:rPr b="1" lang="pl-PL" sz="2400" spc="-1" strike="noStrike">
                <a:solidFill>
                  <a:srgbClr val="933133"/>
                </a:solidFill>
                <a:latin typeface="Arial"/>
              </a:rPr>
              <a:t>: 17. decembar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933133"/>
                </a:solidFill>
                <a:latin typeface="Arial"/>
              </a:rPr>
              <a:t>Iznos granta: </a:t>
            </a:r>
            <a:r>
              <a:rPr b="1" lang="en-US" sz="2400" spc="-1" strike="noStrike">
                <a:solidFill>
                  <a:srgbClr val="933133"/>
                </a:solidFill>
                <a:latin typeface="Arial"/>
              </a:rPr>
              <a:t>od 150.000€ do 400.00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3133"/>
                </a:solidFill>
                <a:latin typeface="Arial"/>
              </a:rPr>
              <a:t>Realizacija </a:t>
            </a:r>
            <a:r>
              <a:rPr b="0" lang="de-DE" sz="2400" spc="-1" strike="noStrike">
                <a:solidFill>
                  <a:srgbClr val="933133"/>
                </a:solidFill>
                <a:latin typeface="Arial"/>
              </a:rPr>
              <a:t>projekata do </a:t>
            </a:r>
            <a:r>
              <a:rPr b="1" lang="en-US" sz="2400" spc="-1" strike="noStrike">
                <a:solidFill>
                  <a:srgbClr val="933133"/>
                </a:solidFill>
                <a:latin typeface="Arial"/>
              </a:rPr>
              <a:t>3 </a:t>
            </a:r>
            <a:r>
              <a:rPr b="1" lang="de-DE" sz="2400" spc="-1" strike="noStrike">
                <a:solidFill>
                  <a:srgbClr val="933133"/>
                </a:solidFill>
                <a:latin typeface="Arial"/>
              </a:rPr>
              <a:t>g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 u="sng">
                <a:solidFill>
                  <a:srgbClr val="933133"/>
                </a:solidFill>
                <a:uFillTx/>
                <a:latin typeface="Arial"/>
              </a:rPr>
              <a:t>Ukupno prijavljeno </a:t>
            </a:r>
            <a:r>
              <a:rPr b="1" lang="en-US" sz="2400" spc="-1" strike="noStrike" u="sng">
                <a:solidFill>
                  <a:srgbClr val="933133"/>
                </a:solidFill>
                <a:uFillTx/>
                <a:latin typeface="Arial"/>
              </a:rPr>
              <a:t>29</a:t>
            </a:r>
            <a:r>
              <a:rPr b="1" lang="bs-BA" sz="2400" spc="-1" strike="noStrike" u="sng">
                <a:solidFill>
                  <a:srgbClr val="933133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933133"/>
                </a:solidFill>
                <a:uFillTx/>
                <a:latin typeface="Arial"/>
              </a:rPr>
              <a:t>predloga projekata </a:t>
            </a:r>
            <a:r>
              <a:rPr b="0" lang="bs-BA" sz="2400" spc="-1" strike="noStrike">
                <a:solidFill>
                  <a:srgbClr val="933133"/>
                </a:solidFill>
                <a:latin typeface="Arial"/>
              </a:rPr>
              <a:t>naučnoistraživačkih ustanova iz Crne G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8" name="Chart 5"/>
          <p:cNvGraphicFramePr/>
          <p:nvPr/>
        </p:nvGraphicFramePr>
        <p:xfrm>
          <a:off x="465120" y="1828800"/>
          <a:ext cx="8259840" cy="51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9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828800"/>
                    <a:ext cx="825984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0" name="Flowchart: Manual Operation 3"/>
          <p:cNvSpPr/>
          <p:nvPr/>
        </p:nvSpPr>
        <p:spPr>
          <a:xfrm>
            <a:off x="1219320" y="609480"/>
            <a:ext cx="65530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Statistik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onku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Rectangle 5"/>
          <p:cNvSpPr/>
          <p:nvPr/>
        </p:nvSpPr>
        <p:spPr>
          <a:xfrm>
            <a:off x="2762640" y="1752480"/>
            <a:ext cx="35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33133"/>
                </a:solidFill>
                <a:uFillTx/>
                <a:latin typeface="Arial"/>
              </a:rPr>
              <a:t>29</a:t>
            </a:r>
            <a:r>
              <a:rPr b="1" lang="sr-Latn-RS" sz="2800" spc="-1" strike="noStrike" u="sng">
                <a:solidFill>
                  <a:srgbClr val="933133"/>
                </a:solidFill>
                <a:uFillTx/>
                <a:latin typeface="Arial"/>
              </a:rPr>
              <a:t> prijava projek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"/>
          <p:cNvSpPr txBox="1"/>
          <p:nvPr/>
        </p:nvSpPr>
        <p:spPr>
          <a:xfrm>
            <a:off x="0" y="17524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40000"/>
                </a:solidFill>
                <a:latin typeface="Arial"/>
              </a:rPr>
              <a:t>Univerzitet Crne Gore: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c40000"/>
                </a:solidFill>
                <a:latin typeface="Arial"/>
              </a:rPr>
              <a:t>Elektrotehnički fakultet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c40000"/>
                </a:solidFill>
                <a:latin typeface="Arial"/>
              </a:rPr>
              <a:t>Mašinski fakultet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c40000"/>
                </a:solidFill>
                <a:latin typeface="Arial"/>
              </a:rPr>
              <a:t>Metalurško-tehnološki fakultet 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c40000"/>
                </a:solidFill>
                <a:latin typeface="Arial"/>
              </a:rPr>
              <a:t>Institut za biologiju mora (Kotor)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c40000"/>
                </a:solidFill>
                <a:latin typeface="Arial"/>
              </a:rPr>
              <a:t>Građevinski fakultet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c40000"/>
                </a:solidFill>
                <a:latin typeface="Arial"/>
              </a:rPr>
              <a:t>Fakultet primijenjene fizoterapije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c40000"/>
                </a:solidFill>
                <a:latin typeface="Arial"/>
              </a:rPr>
              <a:t>Biotehnički fakultet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c40000"/>
                </a:solidFill>
                <a:latin typeface="Arial"/>
              </a:rPr>
              <a:t>Fakultet za pomorstvo (Kotor)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c40000"/>
                </a:solidFill>
                <a:latin typeface="Arial"/>
              </a:rPr>
              <a:t>Filozofski fakultet (Nikšić)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70c0"/>
                </a:solidFill>
                <a:latin typeface="Arial"/>
              </a:rPr>
              <a:t>Univerzitet Mediteran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70c0"/>
                </a:solidFill>
                <a:latin typeface="Arial"/>
              </a:rPr>
              <a:t>Univerzitet Mediteran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70c0"/>
                </a:solidFill>
                <a:latin typeface="Arial"/>
              </a:rPr>
              <a:t>Fakultet za poslovne studije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70c0"/>
                </a:solidFill>
                <a:latin typeface="Arial"/>
              </a:rPr>
              <a:t>Fakultet za turizam (Bar)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Content Placeholder 2"/>
          <p:cNvSpPr/>
          <p:nvPr/>
        </p:nvSpPr>
        <p:spPr>
          <a:xfrm>
            <a:off x="4267080" y="1752480"/>
            <a:ext cx="4876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7547"/>
                </a:solidFill>
                <a:latin typeface="Arial"/>
              </a:rPr>
              <a:t>Un</a:t>
            </a:r>
            <a:r>
              <a:rPr b="0" lang="sr-Latn-CS" sz="2000" spc="-1" strike="noStrike">
                <a:solidFill>
                  <a:srgbClr val="ff7547"/>
                </a:solidFill>
                <a:latin typeface="Arial"/>
              </a:rPr>
              <a:t>iverzitet Donja Gorica: </a:t>
            </a:r>
            <a:r>
              <a:rPr b="1" lang="sr-Latn-CS" sz="2000" spc="-1" strike="noStrike">
                <a:solidFill>
                  <a:srgbClr val="ff7547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9d3c"/>
                </a:solidFill>
                <a:latin typeface="Arial"/>
                <a:ea typeface="Arial"/>
              </a:rPr>
              <a:t>Fakultet za politehniku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9d3c"/>
                </a:solidFill>
                <a:latin typeface="Arial"/>
                <a:ea typeface="Arial"/>
              </a:rPr>
              <a:t>Fakultet za prehr. tehnologiju, bezbjednost hrane i ekologiju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9d3c"/>
                </a:solidFill>
                <a:latin typeface="Arial"/>
                <a:ea typeface="Arial"/>
              </a:rPr>
              <a:t>Fakultet za informacione sisteme i tehnologije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75"/>
              </a:spcBef>
              <a:buClr>
                <a:srgbClr val="cc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Arial"/>
              </a:rPr>
              <a:t>Drugi fakulteti: </a:t>
            </a:r>
            <a:r>
              <a:rPr b="1" lang="sr-Latn-CS" sz="20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b050"/>
                </a:solidFill>
                <a:latin typeface="Arial"/>
                <a:ea typeface="Arial"/>
              </a:rPr>
              <a:t>Fakultet za menadž. u saobraćaju i komunikacijama (Berane)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b050"/>
                </a:solidFill>
                <a:latin typeface="Arial"/>
                <a:ea typeface="Arial"/>
              </a:rPr>
              <a:t>Fakultet za biznis i turizam (Budva)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62626"/>
                </a:solidFill>
                <a:latin typeface="Arial"/>
              </a:rPr>
              <a:t>Instituti/Dru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b4500"/>
                </a:solidFill>
                <a:latin typeface="Arial"/>
                <a:ea typeface="Arial"/>
              </a:rPr>
              <a:t>„</a:t>
            </a:r>
            <a:r>
              <a:rPr b="1" lang="sr-Latn-CS" sz="1600" spc="-1" strike="noStrike">
                <a:solidFill>
                  <a:srgbClr val="8b4500"/>
                </a:solidFill>
                <a:latin typeface="Arial"/>
                <a:ea typeface="Arial"/>
              </a:rPr>
              <a:t>13.jul“ A.D. Plantaže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b4500"/>
                </a:solidFill>
                <a:latin typeface="Arial"/>
                <a:ea typeface="Arial"/>
              </a:rPr>
              <a:t>Institut za javno zdravlje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b4500"/>
                </a:solidFill>
                <a:latin typeface="Arial"/>
                <a:ea typeface="Arial"/>
              </a:rPr>
              <a:t>Klinički centar Crne Gore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b4500"/>
                </a:solidFill>
                <a:latin typeface="Arial"/>
                <a:ea typeface="Arial"/>
              </a:rPr>
              <a:t>Institut za naučna istr. i razvoj (Ulcinj)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b4500"/>
                </a:solidFill>
                <a:latin typeface="Arial"/>
                <a:ea typeface="Arial"/>
              </a:rPr>
              <a:t>Institut za crnu metalurgiju (Nikšić)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Flowchart: Manual Operation 4"/>
          <p:cNvSpPr/>
          <p:nvPr/>
        </p:nvSpPr>
        <p:spPr>
          <a:xfrm>
            <a:off x="1219320" y="380880"/>
            <a:ext cx="65530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Prijavljene institucije 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osioci projekat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Rectangle 6"/>
          <p:cNvSpPr/>
          <p:nvPr/>
        </p:nvSpPr>
        <p:spPr>
          <a:xfrm>
            <a:off x="380880" y="1676520"/>
            <a:ext cx="3200400" cy="380880"/>
          </a:xfrm>
          <a:prstGeom prst="rect">
            <a:avLst/>
          </a:prstGeom>
          <a:solidFill>
            <a:srgbClr val="c4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Univerzitet Crne Gore: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Rectangle 7"/>
          <p:cNvSpPr/>
          <p:nvPr/>
        </p:nvSpPr>
        <p:spPr>
          <a:xfrm>
            <a:off x="380880" y="5105520"/>
            <a:ext cx="3276720" cy="380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Univerzitet Mediteran: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8"/>
          <p:cNvSpPr/>
          <p:nvPr/>
        </p:nvSpPr>
        <p:spPr>
          <a:xfrm>
            <a:off x="4648320" y="1676520"/>
            <a:ext cx="3276360" cy="380880"/>
          </a:xfrm>
          <a:prstGeom prst="rect">
            <a:avLst/>
          </a:prstGeom>
          <a:solidFill>
            <a:srgbClr val="ff9d3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Univerzitet Donja Gorica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Rectangle 9"/>
          <p:cNvSpPr/>
          <p:nvPr/>
        </p:nvSpPr>
        <p:spPr>
          <a:xfrm>
            <a:off x="4648320" y="3657600"/>
            <a:ext cx="3276360" cy="38088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Drugi fakulteti: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Rectangle 10"/>
          <p:cNvSpPr/>
          <p:nvPr/>
        </p:nvSpPr>
        <p:spPr>
          <a:xfrm>
            <a:off x="4648320" y="5105520"/>
            <a:ext cx="3276360" cy="380880"/>
          </a:xfrm>
          <a:prstGeom prst="rect">
            <a:avLst/>
          </a:prstGeom>
          <a:solidFill>
            <a:srgbClr val="6a4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Osta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stanove: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0" name="Chart 3" descr=""/>
          <p:cNvPicPr/>
          <p:nvPr/>
        </p:nvPicPr>
        <p:blipFill>
          <a:blip r:embed="rId1"/>
          <a:stretch/>
        </p:blipFill>
        <p:spPr>
          <a:xfrm>
            <a:off x="225360" y="1444680"/>
            <a:ext cx="8925120" cy="5267160"/>
          </a:xfrm>
          <a:prstGeom prst="rect">
            <a:avLst/>
          </a:prstGeom>
          <a:ln w="0">
            <a:noFill/>
          </a:ln>
        </p:spPr>
      </p:pic>
      <p:sp>
        <p:nvSpPr>
          <p:cNvPr id="2491" name="Flowchart: Manual Operation 5"/>
          <p:cNvSpPr/>
          <p:nvPr/>
        </p:nvSpPr>
        <p:spPr>
          <a:xfrm>
            <a:off x="1219320" y="609480"/>
            <a:ext cx="65530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Statistik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onku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leksandra Crvenica</dc:creator>
  <dc:description/>
  <dc:language>en-US</dc:language>
  <cp:lastModifiedBy>Sasa Ivanovic</cp:lastModifiedBy>
  <dcterms:modified xsi:type="dcterms:W3CDTF">2014-04-05T06:18:30Z</dcterms:modified>
  <cp:revision>259</cp:revision>
  <dc:subject/>
  <dc:title>Slide 1</dc:title>
</cp:coreProperties>
</file>